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20.png" ContentType="image/png"/>
  <Override PartName="/ppt/media/image15.png" ContentType="image/png"/>
  <Override PartName="/ppt/media/image3.jpeg" ContentType="image/jpeg"/>
  <Override PartName="/ppt/media/image30.png" ContentType="image/png"/>
  <Override PartName="/ppt/media/image5.jpeg" ContentType="image/jpeg"/>
  <Override PartName="/ppt/media/image11.wmf" ContentType="image/x-wmf"/>
  <Override PartName="/ppt/media/image48.wmf" ContentType="image/x-wmf"/>
  <Override PartName="/ppt/media/image50.png" ContentType="image/png"/>
  <Override PartName="/ppt/media/image29.png" ContentType="image/png"/>
  <Override PartName="/ppt/media/image6.png" ContentType="image/png"/>
  <Override PartName="/ppt/media/image36.png" ContentType="image/png"/>
  <Override PartName="/ppt/media/image18.png" ContentType="image/png"/>
  <Override PartName="/ppt/media/image37.png" ContentType="image/png"/>
  <Override PartName="/ppt/media/image40.wmf" ContentType="image/x-wmf"/>
  <Override PartName="/ppt/media/image39.png" ContentType="image/png"/>
  <Override PartName="/ppt/media/image42.wmf" ContentType="image/x-wmf"/>
  <Override PartName="/ppt/media/image43.wmf" ContentType="image/x-wmf"/>
  <Override PartName="/ppt/media/image44.wmf" ContentType="image/x-wmf"/>
  <Override PartName="/ppt/media/image34.png" ContentType="image/png"/>
  <Override PartName="/ppt/media/image45.wmf" ContentType="image/x-wmf"/>
  <Override PartName="/ppt/media/image4.jpeg" ContentType="image/jpeg"/>
  <Override PartName="/ppt/media/image35.png" ContentType="image/png"/>
  <Override PartName="/ppt/media/image46.wmf" ContentType="image/x-wmf"/>
  <Override PartName="/ppt/media/image26.png" ContentType="image/png"/>
  <Override PartName="/ppt/media/image51.png" ContentType="image/png"/>
  <Override PartName="/ppt/media/image52.png" ContentType="image/png"/>
  <Override PartName="/ppt/media/image54.png" ContentType="image/png"/>
  <Override PartName="/ppt/media/image33.png" ContentType="image/png"/>
  <Override PartName="/ppt/media/image32.png" ContentType="image/png"/>
  <Override PartName="/ppt/media/image31.png" ContentType="image/png"/>
  <Override PartName="/ppt/media/image53.wmf" ContentType="image/x-wmf"/>
  <Override PartName="/ppt/media/image13.png" ContentType="image/png"/>
  <Override PartName="/ppt/media/image49.png" ContentType="image/png"/>
  <Override PartName="/ppt/media/image12.png" ContentType="image/png"/>
  <Override PartName="/ppt/media/image9.jpeg" ContentType="image/jpeg"/>
  <Override PartName="/ppt/media/image38.png" ContentType="image/png"/>
  <Override PartName="/ppt/media/image41.wmf" ContentType="image/x-wmf"/>
  <Override PartName="/ppt/media/image8.jpeg" ContentType="image/jpeg"/>
  <Override PartName="/ppt/media/image7.jpeg" ContentType="image/jpeg"/>
  <Override PartName="/ppt/media/image28.png" ContentType="image/png"/>
  <Override PartName="/ppt/media/image10.wmf" ContentType="image/x-wmf"/>
  <Override PartName="/ppt/media/image47.wmf" ContentType="image/x-wmf"/>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CB3A-92CE-4C29-9235-03AD12F4C3F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50920" y="698400"/>
            <a:ext cx="4653000" cy="3490920"/>
          </a:xfrm>
          <a:prstGeom prst="rect">
            <a:avLst/>
          </a:prstGeom>
          <a:ln w="0">
            <a:noFill/>
          </a:ln>
        </p:spPr>
      </p:sp>
      <p:sp>
        <p:nvSpPr>
          <p:cNvPr id="17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8EB7-659E-43A5-B18A-6296C5C89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PlaceHolder 1"/>
          <p:cNvSpPr>
            <a:spLocks noGrp="1"/>
          </p:cNvSpPr>
          <p:nvPr>
            <p:ph type="sldImg"/>
          </p:nvPr>
        </p:nvSpPr>
        <p:spPr>
          <a:xfrm>
            <a:off x="1150920" y="698400"/>
            <a:ext cx="4653000" cy="3490920"/>
          </a:xfrm>
          <a:prstGeom prst="rect">
            <a:avLst/>
          </a:prstGeom>
          <a:ln w="0">
            <a:noFill/>
          </a:ln>
        </p:spPr>
      </p:sp>
      <p:sp>
        <p:nvSpPr>
          <p:cNvPr id="178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5E7F-1394-4A8F-A21C-C0ADAE4B3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50920" y="698400"/>
            <a:ext cx="4653000" cy="3490920"/>
          </a:xfrm>
          <a:prstGeom prst="rect">
            <a:avLst/>
          </a:prstGeom>
          <a:ln w="0">
            <a:noFill/>
          </a:ln>
        </p:spPr>
      </p:sp>
      <p:sp>
        <p:nvSpPr>
          <p:cNvPr id="179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63A6-B2E8-493B-A278-03970ACE3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PlaceHolder 1"/>
          <p:cNvSpPr>
            <a:spLocks noGrp="1"/>
          </p:cNvSpPr>
          <p:nvPr>
            <p:ph type="sldImg"/>
          </p:nvPr>
        </p:nvSpPr>
        <p:spPr>
          <a:xfrm>
            <a:off x="1150920" y="698400"/>
            <a:ext cx="4653000" cy="3490920"/>
          </a:xfrm>
          <a:prstGeom prst="rect">
            <a:avLst/>
          </a:prstGeom>
          <a:ln w="0">
            <a:noFill/>
          </a:ln>
        </p:spPr>
      </p:sp>
      <p:sp>
        <p:nvSpPr>
          <p:cNvPr id="179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3ECE-3EFC-4362-8FB2-89C9A6BAC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50920" y="698400"/>
            <a:ext cx="4653000" cy="3490920"/>
          </a:xfrm>
          <a:prstGeom prst="rect">
            <a:avLst/>
          </a:prstGeom>
          <a:ln w="0">
            <a:noFill/>
          </a:ln>
        </p:spPr>
      </p:sp>
      <p:sp>
        <p:nvSpPr>
          <p:cNvPr id="179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D8FC-C92E-4C4B-885C-9F97A91F4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sldImg"/>
          </p:nvPr>
        </p:nvSpPr>
        <p:spPr>
          <a:xfrm>
            <a:off x="1150920" y="698400"/>
            <a:ext cx="4653000" cy="3490920"/>
          </a:xfrm>
          <a:prstGeom prst="rect">
            <a:avLst/>
          </a:prstGeom>
          <a:ln w="0">
            <a:noFill/>
          </a:ln>
        </p:spPr>
      </p:sp>
      <p:sp>
        <p:nvSpPr>
          <p:cNvPr id="179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8EE9-B668-43D3-A5A9-E63BC63F4B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50920" y="698400"/>
            <a:ext cx="4653000" cy="3490920"/>
          </a:xfrm>
          <a:prstGeom prst="rect">
            <a:avLst/>
          </a:prstGeom>
          <a:ln w="0">
            <a:noFill/>
          </a:ln>
        </p:spPr>
      </p:sp>
      <p:sp>
        <p:nvSpPr>
          <p:cNvPr id="180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DAC6-3A4E-44BF-A335-D9BFA5529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PlaceHolder 1"/>
          <p:cNvSpPr>
            <a:spLocks noGrp="1"/>
          </p:cNvSpPr>
          <p:nvPr>
            <p:ph type="sldImg"/>
          </p:nvPr>
        </p:nvSpPr>
        <p:spPr>
          <a:xfrm>
            <a:off x="1150920" y="698400"/>
            <a:ext cx="4653000" cy="3490920"/>
          </a:xfrm>
          <a:prstGeom prst="rect">
            <a:avLst/>
          </a:prstGeom>
          <a:ln w="0">
            <a:noFill/>
          </a:ln>
        </p:spPr>
      </p:sp>
      <p:sp>
        <p:nvSpPr>
          <p:cNvPr id="180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695F-2693-4E5E-B3CA-8F61AA910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150920" y="698400"/>
            <a:ext cx="4653000" cy="3490920"/>
          </a:xfrm>
          <a:prstGeom prst="rect">
            <a:avLst/>
          </a:prstGeom>
          <a:ln w="0">
            <a:noFill/>
          </a:ln>
        </p:spPr>
      </p:sp>
      <p:sp>
        <p:nvSpPr>
          <p:cNvPr id="180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1D87-E39C-4B66-BFA5-243989F4F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PlaceHolder 1"/>
          <p:cNvSpPr>
            <a:spLocks noGrp="1"/>
          </p:cNvSpPr>
          <p:nvPr>
            <p:ph type="sldImg"/>
          </p:nvPr>
        </p:nvSpPr>
        <p:spPr>
          <a:xfrm>
            <a:off x="1150920" y="698400"/>
            <a:ext cx="4653000" cy="3490920"/>
          </a:xfrm>
          <a:prstGeom prst="rect">
            <a:avLst/>
          </a:prstGeom>
          <a:ln w="0">
            <a:noFill/>
          </a:ln>
        </p:spPr>
      </p:sp>
      <p:sp>
        <p:nvSpPr>
          <p:cNvPr id="181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887F-CBE9-47F1-AF78-BA76E25F3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1150920" y="698400"/>
            <a:ext cx="4653000" cy="3490920"/>
          </a:xfrm>
          <a:prstGeom prst="rect">
            <a:avLst/>
          </a:prstGeom>
          <a:ln w="0">
            <a:noFill/>
          </a:ln>
        </p:spPr>
      </p:sp>
      <p:sp>
        <p:nvSpPr>
          <p:cNvPr id="181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C8A0-FCE8-4D8D-B55E-E3A7C4947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1150920" y="698400"/>
            <a:ext cx="4653000" cy="3490920"/>
          </a:xfrm>
          <a:prstGeom prst="rect">
            <a:avLst/>
          </a:prstGeom>
          <a:ln w="0">
            <a:noFill/>
          </a:ln>
        </p:spPr>
      </p:sp>
      <p:sp>
        <p:nvSpPr>
          <p:cNvPr id="176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BF16-DBC6-4617-AFBE-0EA811741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PlaceHolder 1"/>
          <p:cNvSpPr>
            <a:spLocks noGrp="1"/>
          </p:cNvSpPr>
          <p:nvPr>
            <p:ph type="sldImg"/>
          </p:nvPr>
        </p:nvSpPr>
        <p:spPr>
          <a:xfrm>
            <a:off x="1150920" y="698400"/>
            <a:ext cx="4653000" cy="3490920"/>
          </a:xfrm>
          <a:prstGeom prst="rect">
            <a:avLst/>
          </a:prstGeom>
          <a:ln w="0">
            <a:noFill/>
          </a:ln>
        </p:spPr>
      </p:sp>
      <p:sp>
        <p:nvSpPr>
          <p:cNvPr id="181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E70B-11C3-4E39-9882-ADAE588C2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50920" y="698400"/>
            <a:ext cx="4653000" cy="3490920"/>
          </a:xfrm>
          <a:prstGeom prst="rect">
            <a:avLst/>
          </a:prstGeom>
          <a:ln w="0">
            <a:noFill/>
          </a:ln>
        </p:spPr>
      </p:sp>
      <p:sp>
        <p:nvSpPr>
          <p:cNvPr id="182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741E-1369-469C-9038-E979DEAE2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PlaceHolder 1"/>
          <p:cNvSpPr>
            <a:spLocks noGrp="1"/>
          </p:cNvSpPr>
          <p:nvPr>
            <p:ph type="sldImg"/>
          </p:nvPr>
        </p:nvSpPr>
        <p:spPr>
          <a:xfrm>
            <a:off x="1150920" y="698400"/>
            <a:ext cx="4653000" cy="3490920"/>
          </a:xfrm>
          <a:prstGeom prst="rect">
            <a:avLst/>
          </a:prstGeom>
          <a:ln w="0">
            <a:noFill/>
          </a:ln>
        </p:spPr>
      </p:sp>
      <p:sp>
        <p:nvSpPr>
          <p:cNvPr id="182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A7C3-A72A-477C-B8FF-8164E28F87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150920" y="698400"/>
            <a:ext cx="4653000" cy="3490920"/>
          </a:xfrm>
          <a:prstGeom prst="rect">
            <a:avLst/>
          </a:prstGeom>
          <a:ln w="0">
            <a:noFill/>
          </a:ln>
        </p:spPr>
      </p:sp>
      <p:sp>
        <p:nvSpPr>
          <p:cNvPr id="182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63AD-F02A-4961-8E0C-B7D2F2917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PlaceHolder 1"/>
          <p:cNvSpPr>
            <a:spLocks noGrp="1"/>
          </p:cNvSpPr>
          <p:nvPr>
            <p:ph type="sldImg"/>
          </p:nvPr>
        </p:nvSpPr>
        <p:spPr>
          <a:xfrm>
            <a:off x="1150920" y="698400"/>
            <a:ext cx="4653000" cy="3490920"/>
          </a:xfrm>
          <a:prstGeom prst="rect">
            <a:avLst/>
          </a:prstGeom>
          <a:ln w="0">
            <a:noFill/>
          </a:ln>
        </p:spPr>
      </p:sp>
      <p:sp>
        <p:nvSpPr>
          <p:cNvPr id="18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D048-B00C-418E-83B0-90761548C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150920" y="698400"/>
            <a:ext cx="4653000" cy="3490920"/>
          </a:xfrm>
          <a:prstGeom prst="rect">
            <a:avLst/>
          </a:prstGeom>
          <a:ln w="0">
            <a:noFill/>
          </a:ln>
        </p:spPr>
      </p:sp>
      <p:sp>
        <p:nvSpPr>
          <p:cNvPr id="183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FDE-C204-4A16-8FD2-988BBB41BF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150920" y="698400"/>
            <a:ext cx="4653000" cy="3490920"/>
          </a:xfrm>
          <a:prstGeom prst="rect">
            <a:avLst/>
          </a:prstGeom>
          <a:ln w="0">
            <a:noFill/>
          </a:ln>
        </p:spPr>
      </p:sp>
      <p:sp>
        <p:nvSpPr>
          <p:cNvPr id="183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C973-C172-49B2-85F6-EAC15C2F0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50920" y="698400"/>
            <a:ext cx="4653000" cy="3490920"/>
          </a:xfrm>
          <a:prstGeom prst="rect">
            <a:avLst/>
          </a:prstGeom>
          <a:ln w="0">
            <a:noFill/>
          </a:ln>
        </p:spPr>
      </p:sp>
      <p:sp>
        <p:nvSpPr>
          <p:cNvPr id="183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5A5B-E9E7-4677-83AF-85E76DE29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sldImg"/>
          </p:nvPr>
        </p:nvSpPr>
        <p:spPr>
          <a:xfrm>
            <a:off x="1150920" y="698400"/>
            <a:ext cx="4653000" cy="3490920"/>
          </a:xfrm>
          <a:prstGeom prst="rect">
            <a:avLst/>
          </a:prstGeom>
          <a:ln w="0">
            <a:noFill/>
          </a:ln>
        </p:spPr>
      </p:sp>
      <p:sp>
        <p:nvSpPr>
          <p:cNvPr id="184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2EFC-D1E8-49FF-AF30-65914D66AC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150920" y="698400"/>
            <a:ext cx="4653000" cy="3490920"/>
          </a:xfrm>
          <a:prstGeom prst="rect">
            <a:avLst/>
          </a:prstGeom>
          <a:ln w="0">
            <a:noFill/>
          </a:ln>
        </p:spPr>
      </p:sp>
      <p:sp>
        <p:nvSpPr>
          <p:cNvPr id="184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2649-CE39-47D0-86EB-6434992BE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PlaceHolder 1"/>
          <p:cNvSpPr>
            <a:spLocks noGrp="1"/>
          </p:cNvSpPr>
          <p:nvPr>
            <p:ph type="sldImg"/>
          </p:nvPr>
        </p:nvSpPr>
        <p:spPr>
          <a:xfrm>
            <a:off x="1150920" y="698400"/>
            <a:ext cx="4653000" cy="3490920"/>
          </a:xfrm>
          <a:prstGeom prst="rect">
            <a:avLst/>
          </a:prstGeom>
          <a:ln w="0">
            <a:noFill/>
          </a:ln>
        </p:spPr>
      </p:sp>
      <p:sp>
        <p:nvSpPr>
          <p:cNvPr id="184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5FD5-EF39-4B51-9375-1FC8F5F99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150920" y="698400"/>
            <a:ext cx="4653000" cy="3490920"/>
          </a:xfrm>
          <a:prstGeom prst="rect">
            <a:avLst/>
          </a:prstGeom>
          <a:ln w="0">
            <a:noFill/>
          </a:ln>
        </p:spPr>
      </p:sp>
      <p:sp>
        <p:nvSpPr>
          <p:cNvPr id="185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B230-FEBB-440C-A46F-DD5B34321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PlaceHolder 1"/>
          <p:cNvSpPr>
            <a:spLocks noGrp="1"/>
          </p:cNvSpPr>
          <p:nvPr>
            <p:ph type="sldImg"/>
          </p:nvPr>
        </p:nvSpPr>
        <p:spPr>
          <a:xfrm>
            <a:off x="1150920" y="698400"/>
            <a:ext cx="4653000" cy="3490920"/>
          </a:xfrm>
          <a:prstGeom prst="rect">
            <a:avLst/>
          </a:prstGeom>
          <a:ln w="0">
            <a:noFill/>
          </a:ln>
        </p:spPr>
      </p:sp>
      <p:sp>
        <p:nvSpPr>
          <p:cNvPr id="185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D666-76A9-4D49-9DAC-86C9D33C5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150920" y="698400"/>
            <a:ext cx="4653000" cy="3490920"/>
          </a:xfrm>
          <a:prstGeom prst="rect">
            <a:avLst/>
          </a:prstGeom>
          <a:ln w="0">
            <a:noFill/>
          </a:ln>
        </p:spPr>
      </p:sp>
      <p:sp>
        <p:nvSpPr>
          <p:cNvPr id="185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C228-9683-474A-AC1A-32841AC24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sldImg"/>
          </p:nvPr>
        </p:nvSpPr>
        <p:spPr>
          <a:xfrm>
            <a:off x="1150920" y="698400"/>
            <a:ext cx="4653000" cy="3490920"/>
          </a:xfrm>
          <a:prstGeom prst="rect">
            <a:avLst/>
          </a:prstGeom>
          <a:ln w="0">
            <a:noFill/>
          </a:ln>
        </p:spPr>
      </p:sp>
      <p:sp>
        <p:nvSpPr>
          <p:cNvPr id="185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C1A9-FBCB-41D0-B6AC-07B60CACD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150920" y="698400"/>
            <a:ext cx="4653000" cy="3490920"/>
          </a:xfrm>
          <a:prstGeom prst="rect">
            <a:avLst/>
          </a:prstGeom>
          <a:ln w="0">
            <a:noFill/>
          </a:ln>
        </p:spPr>
      </p:sp>
      <p:sp>
        <p:nvSpPr>
          <p:cNvPr id="186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6CB6-C615-455E-ADE6-42E9F12FA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sldImg"/>
          </p:nvPr>
        </p:nvSpPr>
        <p:spPr>
          <a:xfrm>
            <a:off x="1150920" y="698400"/>
            <a:ext cx="4653000" cy="3490920"/>
          </a:xfrm>
          <a:prstGeom prst="rect">
            <a:avLst/>
          </a:prstGeom>
          <a:ln w="0">
            <a:noFill/>
          </a:ln>
        </p:spPr>
      </p:sp>
      <p:sp>
        <p:nvSpPr>
          <p:cNvPr id="186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0C54-9EAC-4BA8-92FE-E9E5AAB57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150920" y="698400"/>
            <a:ext cx="4653000" cy="3490920"/>
          </a:xfrm>
          <a:prstGeom prst="rect">
            <a:avLst/>
          </a:prstGeom>
          <a:ln w="0">
            <a:noFill/>
          </a:ln>
        </p:spPr>
      </p:sp>
      <p:sp>
        <p:nvSpPr>
          <p:cNvPr id="186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F021-9189-48B0-8F78-33DD87506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50920" y="698400"/>
            <a:ext cx="4653000" cy="3490920"/>
          </a:xfrm>
          <a:prstGeom prst="rect">
            <a:avLst/>
          </a:prstGeom>
          <a:ln w="0">
            <a:noFill/>
          </a:ln>
        </p:spPr>
      </p:sp>
      <p:sp>
        <p:nvSpPr>
          <p:cNvPr id="177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9A67-DBA8-4941-98A4-65A233011C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1150920" y="698400"/>
            <a:ext cx="4653000" cy="3490920"/>
          </a:xfrm>
          <a:prstGeom prst="rect">
            <a:avLst/>
          </a:prstGeom>
          <a:ln w="0">
            <a:noFill/>
          </a:ln>
        </p:spPr>
      </p:sp>
      <p:sp>
        <p:nvSpPr>
          <p:cNvPr id="177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FD27-5745-4995-8573-3E2667BF4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50920" y="698400"/>
            <a:ext cx="4653000" cy="3490920"/>
          </a:xfrm>
          <a:prstGeom prst="rect">
            <a:avLst/>
          </a:prstGeom>
          <a:ln w="0">
            <a:noFill/>
          </a:ln>
        </p:spPr>
      </p:sp>
      <p:sp>
        <p:nvSpPr>
          <p:cNvPr id="177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F4C4-6109-47C1-9C1B-0E26FFEBD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1150920" y="698400"/>
            <a:ext cx="4653000" cy="3490920"/>
          </a:xfrm>
          <a:prstGeom prst="rect">
            <a:avLst/>
          </a:prstGeom>
          <a:ln w="0">
            <a:noFill/>
          </a:ln>
        </p:spPr>
      </p:sp>
      <p:sp>
        <p:nvSpPr>
          <p:cNvPr id="178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244F-9137-46A7-9860-BE035F68F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50920" y="698400"/>
            <a:ext cx="4653000" cy="3490920"/>
          </a:xfrm>
          <a:prstGeom prst="rect">
            <a:avLst/>
          </a:prstGeom>
          <a:ln w="0">
            <a:noFill/>
          </a:ln>
        </p:spPr>
      </p:sp>
      <p:sp>
        <p:nvSpPr>
          <p:cNvPr id="178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3D59-8240-4590-97E4-BA99935499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92F95-9033-4D39-879A-5F5AABCE3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990FB-559A-4364-8775-F0B67F805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9338500-E040-4DE3-9F20-CBA8F405F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99D476A-87BE-4837-A612-82564DF2B5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DAD6206-6F27-4BAA-99C1-5A0BA1D928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08F16DA-F040-4D86-BA8F-B41F28D7F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BE1B05D-C4F9-479E-8F9A-A16FEEC0A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AFB66A0-CF94-47FF-A964-158E59E5DF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7F696C8-143D-4D8D-A864-A3BC073CF3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DE420E4-23FA-4410-B8AC-07C3161A0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D3E2332-CBD5-4EDC-84D1-531A9C559D6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3AD710C-E1ED-4DC0-B02C-0348D2545FD1}"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4A787-4DB3-4911-B768-DE1645094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17F9852B-9012-4202-BD66-FCC4C73255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B52A6B4E-CB8D-4348-B0EF-2F40AB8706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9E18B1CC-5038-45AB-AF98-6560E13FE3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ED1B6628-5D9A-496B-A529-2D7DF117F0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CA535300-7672-4DC7-B02C-A7D3777A96C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AE4AA98-7309-45B8-8FB5-6E4DAA67CF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75908CF-827B-4647-ABB9-C11967FB472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A0F93D70-9F3A-4DE2-AE8D-569D1AE6A4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1699463-5E3C-45FF-870B-53BE4F2A03C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4D87E86-4666-44D0-B036-3C0576E706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9CEA8-DCF6-4650-AF3B-B6BF70740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CF010D9E-533A-4350-9F6C-53A49AFECF51}"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1745827-D356-482B-89D1-52B8AA22E31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0E5C2C5-C20C-455C-A75C-CE6C397B21A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BFCD26C-35D0-43EA-9FA5-A98B5B60616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E3EDE13-DADC-497F-93AE-4A2CE6D1A1E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8E6317B-6E91-433E-9F12-44F0C2ED0CF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5F12292-FE30-4C6F-A8F4-4743AEE478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DF468BD-9C27-442F-BB38-EDF1189F662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F89AC61-F9A4-4C9B-B2C9-EE3E5B3C23C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08FC25F-BE0F-4ECD-9983-A3C0D87511E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DDEA5F-F5D0-476A-AB71-94FE2B7D1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D2323B8-BCAA-47F4-BE49-DBEBED59180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2E6252A-2792-4536-99EB-02363E0BFCF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0D2530D-D79A-46E3-92B7-571C55E73BF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FA894DC-A12B-4E41-9508-CB34A4E7784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CC41F9F-8855-4E23-BCA4-405E902D4D2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297F5F4-53D6-4ABC-9A61-029F9928556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94439BE-5801-41EF-BCA8-F4847903754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9EEE9C8-18A5-46CF-9503-1A327F73002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5FB5A53-1D13-4B3A-998C-062750154B4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EB7713-85EC-47D3-93F5-0BFDEBC7574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D9493-B7A2-4AAC-BB11-8828FA2CE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FF0EB1-6F0B-4BB9-B47E-53870D1CD71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9BE644C-86B7-4C28-B4AA-25B71E743F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EA90E7C-31C1-449B-852E-6EC052545B4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566A818-9E22-4DD9-989B-E9147202A0F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9AB130F-C4AA-4E19-98F3-B1B9A6DED4D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6575839-6AE3-4FBD-BCE5-CDD4CB2600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9AF6427-2C2D-4F33-A63B-3514BC72B1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EA487ED-F8F9-4E50-A290-07F4EC51DE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852F691-AE0E-4409-9681-FEA710640F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0AA29D4-CDB2-4D76-B2EC-A70E695D8D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A2459-4F41-4BA1-9EF7-D35A37B6C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B25D5DB-D079-4005-8D74-844B37364D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FA5BF32-7747-444F-98B2-CD841139A1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72C9A5B-BD4A-4F2A-8EED-1AE0CA6B2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8BDFDDC-3ED5-4D58-A901-C7A5F72558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E16DD3D-D248-440D-BE3F-BD5A091D6A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4636B18-82B8-47A0-900A-AE9CEED5EB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D9781793-C3F4-4840-B940-94E351AB85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2BF93C1-B8B1-42B0-85B6-9659C6AB5B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0770EE3-E0DA-47EC-A0E9-82F8DA83E3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F5A6A66-CE10-4690-B248-C017170E38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28B79-AE7F-4B73-9B12-B0662949A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7F00F2C-8884-4A9A-9729-36FAD8113D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6BF0FD5-8E3E-44D2-A4C5-491C17E075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7D169E2-538D-4351-97FF-1DEFD9BEC7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8EA76AA-C7FE-4437-A6FC-476F240ECB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6925545-9D8C-4431-A79D-325F14748A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E7E029C-C6EE-4913-A8C4-1B5B1A0EDE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551E44D-92ED-4FCF-B183-07C6DE55ED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574EDBF-EB42-4436-8844-A937358143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7356FFF-8871-4E46-B965-30008C8A97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D9D49F5-FBE7-4109-8A6E-E2FEDF554F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38AD3-30A1-45E4-882A-BADFFB0B2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567338A-F30E-40E1-9B16-96E34FA8BE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94727AE-8B1A-49B3-BEB6-83A2E6E47A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D2CEC4F-6B12-4AF9-851C-388264A2C1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70673E9-9E9D-4FFC-AB45-A5EDF90134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84DB32B-47AE-43AD-BFBF-52C65C9E8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E6933F5-AA3B-4D04-BC1C-CD988972EA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DD7434-CC62-43C9-B200-13E00C54F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055BD87-B135-4C42-8F2B-159A382D71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AFCBBB1-2C3B-4CC2-A42F-8FC3168E08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09789A1E-022C-4FC6-B830-17FC8F5E08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4A6A6-080C-44DB-BB6B-3594B6C4A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8239AF9-DE9D-4D05-A950-6F757C9B7E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069D8600-1CD2-4AFD-8B65-7718D50F37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C9622EA-99B5-4448-B51D-642E634ED4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195E793-C1C9-4DAC-9676-F8C9657E96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B5E463A-35B0-487F-BF20-1B21E3F2E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CCD4A5B-1CDD-4A02-84EE-85E1119204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1D82854-DB19-4909-8C45-4F11F271FD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C5E0892-2ECA-4BA7-A0E4-C522ACCF55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C971C78-9AFA-419F-BF22-8EAF8245A8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9DE5113-9134-4998-BB45-90BCAB8AD4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A5CAE-0940-4B4B-AAD6-28ED0231E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BEDD7F7-4F20-4D68-9242-7551A9C385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FC91CDC-83AE-4A72-9509-031BFD797A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BE41F21-DD96-4BCD-ACEC-5C22F76B3A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0616F9F-8696-4582-8787-C04D715ADC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A220392-1D00-43CA-B1DF-F1CE6F98BC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CE2B770-BBE6-40C1-8D88-F52BD5CD20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7993086-F56C-4F4B-9CBD-AB1BB1DB62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983FF22-AA0E-43A4-B858-F8CDAD5A83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E8C3779-3FE3-48A6-B5C0-C7FABD8738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DC4B499-5521-4D61-874B-C0B829E822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DADC4-89F1-4A47-A0A3-3C25EB33E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839E3-0446-4DDB-86B9-092670061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4B37248-00DB-4FFE-A622-5BA0C63780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7C9DB43-305D-47E0-8BA3-AA6691377C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A2D01E1-DB67-49CF-A08E-38039C63A8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A766E540-BBDF-45F2-A622-C0FD0E7934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4964BE0-7D2F-4D4C-9768-9A1B723FC0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E56926AF-9200-43B2-9074-65457BFF2E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D91A8A5-74FD-4380-A2CB-18FC55E359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572793E-8392-4197-BEB8-0EA25DAFC9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F4319C6-74B7-40B7-AD5C-C845C3B909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C5810C4-DF42-458A-91B3-3D26B73F07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0D3BB-B58C-4911-BE13-FB080D5C8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AC56D7A-9FF5-448D-B1AD-0FC8489FC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E75A56C-AA72-42B8-87AD-495B86ECD7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921AB30-55BB-458F-9EB4-97F178722C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E27C3D4-EEC2-4ACA-80CD-16BFDFA6B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4B37680-835D-4314-8E77-C3BD852B4A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2580C5B-DC29-4445-96AA-7407CCA562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380B04B3-1276-4FC3-B9F0-67DF351BBE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32CB5736-B53C-476D-BE93-4986BDE6CB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F80CADE-BA85-4A7B-A84D-992C72DB59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EA6C594-395F-48A8-9583-5B8D9B2EA0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D8739-4B9E-487A-A72E-FA0F0FAD4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2B9894D-08D1-4AD1-AF3C-B1F924B88A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0466F99-D81C-4CAE-A7B4-7BF2C45828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7BEA7B4-C4EA-46AD-9C9D-E88AC4907F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D946F8B-9222-4A01-A4DD-6F7581F16A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540AFAB-0973-49F4-B9C5-E9C3994C44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3E0097A-2051-4156-8513-5FDA8B51D8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58019CB-A43E-4A92-BF6B-CEBB7F2DFC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25E558EA-B126-4CC2-A4FD-75662CCA2A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EB2EF795-A4CF-456C-A004-45A1FE5CB4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1BF5E441-A67F-48D9-8B55-C3FA9FAB69F7}"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58A1D-8720-419B-8401-FBC29ADFF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DBC23D2F-886E-4093-9A59-A7741218263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1CEBADED-4FAF-4CA6-BCCC-C1D70DFC7AF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C159A8C4-99F1-4374-8555-CCC37A5E5F8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8D7EB380-FA01-4B5C-9557-1EE1BC391A0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8B0ABF55-1AED-48DE-96B1-6422481A698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34D18889-6E8C-4FFC-8FB9-1871AD1CB05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987FC202-8E47-43EC-A36E-1F47A940522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CDDB115-8113-46C0-933F-4FDD849DFCF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A9B83237-3108-4D5F-87D8-99A6F0E1953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FFFBBE12-A8EF-45A0-808F-6235BE5EFFA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C0579-2F0A-4496-B29E-5D82CE2B2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CD307679-623E-480E-B0E9-98D55C3EB014}"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F4A2640C-E17E-4C79-9FC3-BFB0B3AE7B57}"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999E04C3-4DF1-4310-9530-5E200F743E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F199A54C-68CC-4084-9058-96309055041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310CD501-C104-4EB5-AEE5-AE2A9863F3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45CE7C8E-96D2-486F-A385-2A336A87AF8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9DE73D09-93B8-4917-8950-5C6C66E7376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105E47E3-F4E1-4E6B-8506-B76A128A06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CD08CE1-F337-4507-AB02-167C3C2BA1E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9C20ECCA-FB77-4726-BDA1-E0939371258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C1E614-59F0-4666-ABA8-46E5F4AB4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9342F10D-789A-4644-8084-3FD55907FAC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1753FA5C-95B1-4F29-ABA2-605FC636BC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BF9515EF-470A-457E-9556-AA5A92593110}"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12FBB8A0-AF66-49B9-A96D-A10D1F89153A}"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0166136-0026-4118-B839-1C6FCC4F9C81}"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611788C3-9C9F-41C9-ADEB-0CE0D24DEEE3}"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68C4B85-CAF1-471A-9FA5-5659F81E286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23A1A6F0-9C70-422A-A921-69BE27E6E54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56B4759-9C3B-46EE-BA8A-8AE63C2F4CDA}"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FF1208D-5287-426C-939F-4700BBFEE95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A5D7C-0DAD-4C0D-B66C-22507949FB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529842C-E425-451D-AECE-AF228B1EA67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AB0B670-1ADB-4660-A614-8F3A0F6E79DA}"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8E0A125B-DAD3-41F9-BCAE-BB18FF86B56D}"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09B2AEF9-59FA-41A7-982A-7F1CEA438D6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F9E9AE5-59E6-43A7-8EA4-C9FE8E051385}"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8A7AD1EE-CFFA-42E4-8CC1-70013C8CD3C2}"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7F309A6D-39F1-4C85-B8F3-71C422C9017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4402FD9F-A245-4992-8584-253045AD185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1FC482C8-96FF-45C6-A0DD-A710172511B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D9DA1B6-ABC8-43A8-AA3B-EFB052CF21B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DE5E99-C61A-495C-B9FC-478822EF2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9F0E9471-ABEF-4E02-AE9C-4E0197E9911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C9513EF-E592-4399-83F8-CA4E8487355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386085A-70F9-4022-A88C-767BF9316F8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81B4BC8-F0DD-44E8-B16F-A451D2D771F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EBF6191-B677-404A-B760-AD66F16FACE8}"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A4A982D9-4085-48AB-8B4A-77D786CA8CD2}"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53CC870-B01A-4DF2-9910-62BE28E8FB0A}"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678868E-CB13-4EEB-BA43-F0653561C07C}"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5A45EC5-F2A2-4398-9960-382129D15DF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9C7C3AD-8868-4F6F-A0BF-AC63DDA0C94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63956A-03ED-44E7-993E-6D3EED6BB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7AC4448-D9EA-4224-A860-0E0609685E9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0D1C441-1A31-43A1-8541-CF757E77458B}"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016DF4E-AF44-4370-9DB2-665F638EA603}"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C86CCC9-EFD2-43B0-B5B0-9ABF22A7F3E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263B101-D39B-4ED5-B6E8-8A10AE56B09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AC63281-06EA-4967-BBCF-14DE4F2AD06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AD9918E4-6A7A-40DF-AEF9-E93D8837816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CAC1A5A-9E25-4F21-97F0-BE8238CC0E6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DDDBE145-5CD1-4DF5-9C1D-422DA6D9574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7BDB5E12-7921-4C61-A350-4DD0D4DB63B1}"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B4B78D-8CA3-4B71-9C03-B066CA90D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8AB5427-122D-43E1-812F-9226FD729CA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D8F9D0C-0676-456E-9D2D-4FFB846AC88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2D880477-6BFD-44A8-9894-C872604029A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B76B9BDD-2B86-4F61-975F-329D69543C3F}"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1868E2C-0384-4248-91C6-1BCFB6C0F2A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D491A04-706E-4007-9263-40F0B2F65FF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AF67DEC-77FB-413D-9110-25B182E9865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A58FB42-4CF7-4304-AF42-2A7427EB020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E6FA9443-D984-4106-BF63-903D8E3DFE7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B918ECBF-3860-4BAB-B912-CF8AA7A4F73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583DC-08F1-490A-B35F-D2FFECF7E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FA34B-C880-4F36-BC78-76DB94832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88D8257D-B892-44B7-9079-B1A1DB043887}"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7F68BCF5-6246-440B-A010-43B86441EC18}"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96D067E-EBF5-4561-9A2C-DE8A27D527A3}"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6CC9CE07-543A-4B99-8DF6-A6A7F2230DCA}"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5D72BE2-E13D-4D87-8449-5FBEDEE7A1C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D3209D2-BDEE-4812-84FA-707893A4A01A}"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B1D353C1-3F07-40EF-A8FC-5899AC9B1A2F}"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E30886C-4433-4E56-9079-B8D3CA8F1B4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8CDBF51D-23FB-4784-9123-7B5725CFF98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A22EFCB1-07D9-4420-9903-FD745A8A6CA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338C4-4062-43C1-8A01-CE7A7788A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4CEE7C8E-CA15-4E17-8F63-3B1D4CEC1995}"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0D975469-3956-48CD-AB19-89686A836C4B}"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D9BA2046-7AF8-4A94-BDB3-069616586820}"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045795C6-55F4-4F84-A082-C37D7218E3A1}"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DF5620F3-AE80-47C8-BE25-7ADD925C878B}"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77A30C2D-B167-4A6B-BEAC-072FFB20BDFA}"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37C6CFD0-0A8B-4A30-A32C-C7857F579D1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3E4CD5A8-36F8-45E6-93C1-ED596A20E3D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662D19D8-F244-4147-A56F-776AE694AE6F}"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F2647E4D-E294-469F-9854-E13A1CEDD612}"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E6E21-C81E-4F10-AC05-40FF001C7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F892EDC-F53F-429A-8A43-FB8B00DA919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88A1953-A56F-4694-B973-CC8E544052F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C27610AC-EEC8-48CD-919E-4905C08BEFD1}"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31BAA187-E683-4104-A876-FD675FAD1B47}"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2D96B46E-B11A-459F-8AD0-CF89C80AF246}"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9A1DB387-3A98-4F06-A47F-E2D290BF9D46}"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693E3C27-15E8-4B59-B6B1-F5462F35CD45}"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D7A0D5E6-A0E2-444E-93D2-62A1F227A40B}"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0E0102B6-F1EB-4203-AB12-DA0444E9B5B6}"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A2C49427-8461-4034-83A8-FEF64D40E56F}"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69023-38B5-4842-92B1-23B5A1164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3A955272-B2EB-452E-A783-4171431014EC}"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4D055C1C-982F-4E11-AA97-D3C2BCD94B56}"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B7022BF-948A-486C-9BDC-BFA8E2CA4BC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5D0E6160-E482-4B8B-8B21-9B4A44C68B53}"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683B3FE-021A-4C1F-8AD0-9657F23B1FA5}"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068BE4B6-F279-40D3-8218-998A95A2FD6A}"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A3849B00-1604-40E2-8E3E-6D7A1A0CDD74}"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62F6DCC7-054E-4785-AEAB-89C13EEEFB81}"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CB11A767-3DEB-4857-AB7A-260A6C0BFD42}"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05E983C3-71FD-44C8-8ABB-099CB1576EB7}"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A5D2B-08E2-4803-8875-5EA582E87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8F16A1BD-AF8C-4395-8AB5-29E88E0699B3}"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DD97F6BE-EF12-4376-940F-6AC12C086C2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7A75053E-A854-4B5A-9589-7E0F716CC874}"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71A0646-5B26-4445-860F-6EB83B747EB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E49F0AAF-E8FD-493C-854C-598163E55DCE}"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5AC26A09-8E96-4D16-A06A-D3C30527548B}"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82D17BAD-A431-40C0-8618-BAC14B4A6165}"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E65EE41A-C8D4-4269-BFE5-3EE1C99C51F5}"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94C7BCA4-0366-40C2-9275-009EAFA82042}"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AAA6F0FD-0A76-485C-B26D-A030AE8081C4}"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0B638-2849-4BED-AE07-9E98952858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0C04B254-575A-4172-B3F7-4F1E69526B77}"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6CDF4DDE-BB93-4E98-A4EB-B45DDDCE8B76}"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75F955B6-228A-4A20-AAB1-11D1B5EFF1E1}"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E4E28EB9-45B8-46E9-93AD-3BEFB262C2DC}"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A47BCB51-07C9-48ED-9D1A-13908C6605DA}"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90D873FC-ECF4-4195-9D01-FAF9E9F540EC}"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C5C6BC12-CFE2-4A91-AC00-DEA46724C153}"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2982250-1E5A-48C3-A0BF-BCA6AEFB276E}"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675FDDA-7C7D-490B-B27C-78B550EB10E5}"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7E4DE97D-024C-4B98-97BF-2B046699542B}"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26EDE-F651-4A9A-AD79-29A17EA43C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3C574714-A1D5-4552-A335-C82A705D681A}"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254532F9-C35B-41AD-9A6C-A1AB6975ED9F}"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D9023F8D-AB8C-4A16-A313-462FA8CB4371}"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5DC7E00-495F-4315-9A8C-C64ADA0B4E0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6CFC290-8DBE-4693-9A99-7C10080861F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5B3290FF-6BEB-4723-9FC9-EBEAF9A7C2DA}"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CE1F5CA-1C43-4F1E-8AEC-FF3A1B49657D}"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64044F54-47E1-4CE1-B819-4918C8B7AB1F}"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A78EA9AF-9E14-483F-AE9A-734355FD002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ED761039-E0ED-4C34-9B52-0643C7E2A8ED}"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B3987C-43C6-46AB-BEC4-0317562BF1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E11BA2B1-8722-4FF8-B38A-7080E3670A74}"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FF89EDC3-491F-4537-AEB0-7C371B7073AC}"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A5CA4737-76FB-4FF0-9746-D7DBA582DF17}"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212E7123-999C-48DC-A095-7F34642BFEAE}"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76C1901-F5C3-4016-AACA-578F28EC2F14}"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BA335A24-6AE9-4B08-B376-84A0AA9C4BC5}"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0A376463-C424-4B18-B9F7-4FC05259D726}"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30168111-C72D-4619-8ECF-353DFC9EBCA2}"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AA310D37-0F6E-4623-AF12-A591162DA1A1}"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70FC2877-7507-416E-A12C-0071D0D7E616}"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4736B3-7258-4D17-9D02-597B1FF07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F696928-A021-4734-A151-62EF010F1666}"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3960756-6FF6-4331-9A9F-62B384490000}"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A2B84EAE-251B-49BA-B4E9-2A673987686A}"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C36EB4CC-AEA0-4286-B63E-DDCD7548668A}"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7B81DBBC-80A8-4689-BD51-2099EE5FC156}"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F5B950B3-EB15-4417-B0B4-74583DCBC5EB}"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C4BCAB46-B8F7-4749-92E8-84C2FC144C9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EA332A0A-A271-4A3E-81A3-E697CFC208DA}"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9792C83-9309-47D4-AFED-25FA09CC5099}"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D56C9A22-BFE1-4D32-BD83-5F6B093CB4A1}"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95A93-EF98-479D-A9C3-37D563F09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EBFA480E-4DDB-4146-8A75-966D6A42C536}"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E080E827-B315-4F94-B49E-F6FC6257BA7A}"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6839DD2-BC9A-4B39-B3F4-6B99605B2370}"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E6C0E453-F0B1-48DB-9023-453B11CAE989}"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FB46715-1F7A-466C-9485-E2D14F59AB2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CF185B84-217E-4685-BEC5-CF7EAD5D85D1}"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CAB6CAB0-F2B4-4C2E-8207-BC3666542889}"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E2D17C66-3C77-463A-9C9C-12F3489456DD}"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81811A1D-6D2A-4F9A-8BC7-089BF58BCFCB}"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F6238C07-6F24-4EFC-A926-81E5535E7771}"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236E1-B22D-4096-940D-8D2FCEA62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5EE2F-0683-4985-A582-786CB675B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354C2629-C545-45F2-A912-5EC671FD8823}"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0EA8BB80-1763-4B42-A987-1D20E6DACED7}"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C454720F-1202-4E75-A920-C0CC670B7850}"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D252D8AC-1629-43EE-98FE-45DC7802C3CB}"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89E35905-65DA-403B-9995-1A43E195F0B8}"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C569867-A703-430F-8415-379AE7BFDED4}"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AF7897CB-F81C-4BB9-BACF-411D3B7DCEFC}"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2B4A48AF-2E25-4229-A8C6-0F686771EAF0}"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683CB8DF-FBD7-450B-9E14-CC0F2B619816}"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5618253D-2A0D-4D0F-BD3E-320DDA2CDC59}"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A4E63B-BF00-4891-9BFC-BA6EBC586B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0F31C4BB-05F7-48A5-8CB5-60949FD02A48}"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42CB2A70-3B77-481E-9DCC-089EE138F6EE}"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92AE543A-C7E7-4E0E-8E13-01D1E0ED1282}"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D6AA129A-7B0B-46F4-8B7B-8F4EA00B0928}"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A63A2564-2D2D-4F22-B2FB-7B9E75CE23F3}"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58C52B5C-D585-4E7F-B20B-BF80561D43A0}"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F2E17D19-8FED-44D4-BED4-E22D14B8C0B0}"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4B167ED-8BB4-4FC2-8406-6E1692803C8C}"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42F3EABA-28E1-4426-A4F8-243878701CD9}"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5BAB2EF9-2E0F-49D7-B163-39F1CC015612}"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4AD2C6-4CB6-468F-8312-BD1F653533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EA136BFE-32CA-428C-81F4-EE0BB2C4EA7F}"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FF9B5014-910B-4E7C-A530-9457A007C461}"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3DFA7A01-9E26-439F-9AAD-7D765603FDD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3199FC19-F848-437A-8F0B-7469AD74A33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83490C95-8B89-4A53-8D2A-AD990D6C2730}"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B7B99DDA-A601-470F-8614-E2F011C1D088}"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EADA906B-521C-4B23-B280-37740BCF0008}"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932BDE83-4D36-4AEC-8212-2F165A332D14}"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466D3E6D-533E-406E-8751-B0E6C511BBEB}"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645E9977-7CC0-4793-BD25-96E166A89465}"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E15EB-A4B6-4CF3-A84C-2447B6EB4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D81D642C-6B5C-4F4F-BF74-02427883CB78}"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55FE331F-0F9D-40DC-83CB-278083BC9119}"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2489867B-F4E2-4E7B-BD86-13BBE79B3267}"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24F0C5D9-75E5-4B79-A397-E27C930728FD}"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C0DF93B3-621A-459B-A931-9CA7D2D39DA4}"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DA8E3CBF-C6EB-4B40-9A9F-C98065459F18}"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E0BAF2AD-2969-478E-8518-3CBBD9918ED0}"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3D62402E-0FF3-452F-A5A0-03BE355CBD44}"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558CA5D2-EC96-46D0-9AB6-C693FEF9BAAC}"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EC53A7D5-F360-4792-95A0-875B7CF45F96}"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3AB10-2F51-40DB-A951-57386715D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F9E3DFE1-58DD-42E1-B645-811F306748D1}"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109DE73D-765C-470A-A307-CEF1F7907482}"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C9B16476-7C0E-4CBD-8109-A6EB766E2C7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62CA02F5-6D52-4A30-A626-4CDEFDD6D164}"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03B540EA-072E-4826-8809-3EE486564822}"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8436CE6F-01DF-4C3C-9776-BDF4B0C0794E}"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6A9970B1-2953-4A56-8AF6-938D867614E1}"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225C1A95-4C05-4003-A17F-76D79344EE16}"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009A18D1-452B-4372-8482-3B498A0406DD}"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88928437-05CD-4EC8-9D36-CAE46D8EAD0A}"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9A723-8E40-4451-BE0E-C9E97ED30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90444A20-DE28-46D3-B923-F011BCFF2FE9}"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1B6ADE41-C526-4002-A57D-A00A25827F64}"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CC1269D9-F2CE-4738-A8C0-6B242747D4BF}"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681E920-D4AA-47BA-A48A-80A8D713E1F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62CF4358-0932-4FD8-BEE9-853FCF214CDE}"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17D18E3E-90F9-448B-89E1-4B16E90BE0BA}"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43F67B1A-CA0E-4E53-964B-8E5E53A62763}"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5C7AB24A-632F-431E-8345-56A5DD405A45}"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9A1B9B7B-0480-4BD7-B4E0-CA73D278A546}"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840DDC69-E2F1-417E-96DA-EEB1236D2000}"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E5230-CF3C-4CEC-81A5-4F1DC70FE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2F84E7CF-9685-4BC0-8767-C72CED9AE433}"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004AC393-AD1C-4A87-A268-B777808C0718}"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440B5656-3A00-47C8-892A-07473C7FBE00}"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F546B792-81E2-4063-949F-8EDE033D861F}"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BFFE9EE5-5B27-4426-BA96-B8154A6ADAAE}"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9F9DCF84-5996-4B7C-8143-49439B502DC4}"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130DE24E-6C39-4388-90A8-73FFBE9230FC}"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958BFE1D-6291-47F9-AA56-8F4991D696D0}"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5265DB45-B320-4DDB-9658-B788E2784734}"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8B303B00-D47F-454A-BE2D-565E1D60798E}"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1FF5DC-2000-466A-B2FE-69C8D7C82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F33FA2B-C818-4A5C-9321-6F3CD5297DA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5E9A63C3-46B4-4E32-B1C7-7CC7326C2442}"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17E5950D-7032-4D0E-AE8F-29123C99DFD5}"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F06E6D2-C88F-4908-A3DD-1274CCFFBFFD}"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852B622A-C00B-4F16-B9D7-5ACA9A31F9A4}"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680F8542-8F31-41CB-8487-74EBC27C92C4}"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89ED2B11-8A08-4912-9111-E40644A7FA95}"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28F10D41-CEE9-4E96-8645-C7368EC6E10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CCF293F0-8AE1-4609-8A75-75C0B15D57F7}"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6ABDB95F-9A54-41B0-ADC1-4BC2C599EBED}"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747C7F-095C-4422-8EBF-9965A6D791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FC7224B1-B8EE-4885-9B12-4A9F4D721321}"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4E349-A681-4B22-B547-B070629B1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17BF0-FF8A-4518-B52F-67342D2A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923F8-6F1D-41D7-81A5-F145FBEBF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787D88-589A-4FE3-BB9D-93AF339D1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7B7A7-912B-4F25-8542-45F58A086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BF889-3B06-4DBC-99FD-D6BEDCD3A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8765D7-F9A9-4633-8069-13AB8C319D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3C9F1-C3AB-4D72-AA12-05E88C877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5C17A-7D0F-4430-91C0-DB05AAD5F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E789CF-E38B-4F33-BD66-65F54FBDD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66B01-3AB1-42CE-81F0-C245E72C5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26FB3-E38F-4D4C-B9EB-2BF26B8834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24440-F5CE-4BAE-A23A-7BC663CDD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BD024-4995-4352-899E-A7A56419A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DD6616-77CC-43B1-AAD7-78DF7A2A46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38A644-373A-4293-BE39-792E6D492C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B8B5E5-27E8-499F-83D0-31E5C43BB8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1E31FE-F2EF-4CEE-83EA-69E913600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C173B9-F88D-4EB0-B3D4-7C61175CFF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72991B-F481-4DFE-A416-FBE4472506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63F6C-C4BD-4418-949B-46AE8A1368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CE04A-BF3F-41BA-BBB6-D2F0BD0B1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7053D-3CF9-4328-8BB6-8E73C2CD0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37896E-66D1-4225-85A3-2BF6087588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EEB5A-3AD6-4359-B38E-0390987DC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3BC9F7-B028-4F5D-BF4C-0E9521C82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3A9869-1AA0-4CA7-A6B5-2B8A9300B4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80B282-CFB9-4685-9169-7A26F85C2A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FF7F5C-2157-4DE5-A5D9-11B6F59FA2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0D7F767-B79B-44CE-98D9-6007F718696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7057115-E3B7-4095-9428-ACCD99092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AF84D70-D289-4E15-BF0F-A0AB4F08893C}"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2D7C-3C4A-4798-8C4A-DA5E242ADAD0}"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DC56-14E2-47D5-81BC-49316463433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8064-9B47-4884-81FA-4212666D5A1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736E-3FAC-49C2-8F34-018CB04BA81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EDE4-DFDE-4645-9232-5331FFF7772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C730-D2D2-4612-B5CB-A123D14EE0C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CA61-6772-4959-9BEA-20F468CE2B8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43151-D031-45E0-8A4F-28422F9CF3D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5238-6F0C-42FF-AFF3-05706108941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7318-D57D-4D58-9D75-CD1B85B2341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1E51-DB35-4AA0-A019-C5A8E2CF28E2}"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BF50-80F9-4849-92CC-159665B3CF6C}"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BD81-92D6-4CC2-8BB6-EC3A7B39703B}"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80A1-276A-4255-9FB3-BE547B55895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7D9F-09EB-4D56-AF47-3010925D505C}"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4003-4D3B-43E6-8FDE-B2BD4131A6E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38A4-D682-464B-B0D2-2B697E936E59}"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A8B8-CD41-4AD1-B6F2-47E151EEFA6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27A6-E8A8-4437-92EE-36CB58A9E7A8}"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E0FA-B536-4CFE-AEDE-0B38B7DDB849}"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B4C1-6CF9-43C2-B655-4FD3E8045319}"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E0A4-2D9A-49C5-AED7-2876D47963B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2AAD-02DE-404B-8E82-58246F647116}"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6FE4-CEEA-46E5-ABBC-48EB257EE28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4A9D-5B3D-4E2F-A95E-55497B30ECDA}"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B1DF-DCA8-4BA8-A2FC-A58DD3EF988B}"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8B72-49EC-4924-A1BE-3BEC6F7B19CF}"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E401-CF5E-413F-BD59-3136CB2889C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BE4B-0E9D-4B78-A886-D797E0EDDAB6}"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B465-697E-405B-BFB6-BE1244A301A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7A93-A589-42B8-8EEF-203D8810F9E5}"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009C-B0B1-4B83-9CA9-F3E7C17103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C6A6-BD30-48AD-B0C2-C476C1B023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9D1C-5D69-448A-AE9B-A7196783DF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EE14-2AAA-4C6C-BAE2-70D712890B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8850-C08F-4C6F-8254-622A987EA4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E881-15AA-4A41-8924-F3BDA5498D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D4DD-8A3F-460D-AB9D-00AEEE07161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F1DA-D065-478E-9FFF-CEC0677631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8F7E-3D33-43D2-BA57-E6435C23C1BC}"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1238-BB1C-40E8-A92F-EF335C3F1F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2EEF-8878-48A0-B49B-6C637A5DFC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18A9-EA46-42FA-989B-32C49CAF12D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E8E3-31A8-45AD-ABA6-2021A5AD9E6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slideLayout" Target="../slideLayouts/slideLayout3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7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7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7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7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7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42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hyperlink" Target="https://docs.google.com/spreadsheet/viewform?hl=en_US&amp;formkey=dDJabGkzbFAxLWJHbXhxSUFQcmo4ZWc6MQ#gid=0" TargetMode="External"/><Relationship Id="rId3" Type="http://schemas.openxmlformats.org/officeDocument/2006/relationships/slideLayout" Target="../slideLayouts/slideLayout361.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36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012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orth Carolina Teacher Evaluation  Online Training</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tford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tember 16,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1"/>
              </a:rPr>
              <a:t>http://region1rttt.wikispaces.co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86"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90"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1"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2"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3"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5"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5"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Evaluators</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6"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698"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ow Would You Rate the Standards?</a:t>
            </a:r>
            <a:endParaRPr b="0" lang="en-US" sz="3600" spc="-1" strike="noStrike">
              <a:solidFill>
                <a:srgbClr val="000000"/>
              </a:solidFill>
              <a:latin typeface="Calibri"/>
            </a:endParaRPr>
          </a:p>
        </p:txBody>
      </p:sp>
      <p:sp>
        <p:nvSpPr>
          <p:cNvPr id="1700"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1"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703"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ssessing Inter-Rater Reliability</a:t>
            </a:r>
            <a:endParaRPr b="0" lang="en-US" sz="4400" spc="-1" strike="noStrike">
              <a:solidFill>
                <a:srgbClr val="000000"/>
              </a:solidFill>
              <a:latin typeface="Calibri"/>
            </a:endParaRPr>
          </a:p>
        </p:txBody>
      </p:sp>
      <p:sp>
        <p:nvSpPr>
          <p:cNvPr id="1705" name=""/>
          <p:cNvSpPr txBox="1"/>
          <p:nvPr/>
        </p:nvSpPr>
        <p:spPr>
          <a:xfrm>
            <a:off x="380520" y="1828800"/>
            <a:ext cx="8458200" cy="4038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sessment Directi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cate you clicke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dentify the rating for the teaching attributes on each slid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cu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YOUR FOCUS</a:t>
            </a:r>
            <a:br>
              <a:rPr sz="4400"/>
            </a:br>
            <a:endParaRPr b="0" lang="en-US" sz="4400" spc="-1" strike="noStrike">
              <a:solidFill>
                <a:srgbClr val="000000"/>
              </a:solidFill>
              <a:latin typeface="Calibri"/>
            </a:endParaRPr>
          </a:p>
        </p:txBody>
      </p:sp>
      <p:sp>
        <p:nvSpPr>
          <p:cNvPr id="170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integration of technology.</a:t>
            </a:r>
            <a:endParaRPr b="0" lang="en-US" sz="4000" spc="-1" strike="noStrike">
              <a:solidFill>
                <a:srgbClr val="000000"/>
              </a:solidFill>
              <a:latin typeface="Calibri"/>
            </a:endParaRPr>
          </a:p>
        </p:txBody>
      </p:sp>
      <p:graphicFrame>
        <p:nvGraphicFramePr>
          <p:cNvPr id="1709" name="TPChart"/>
          <p:cNvGraphicFramePr/>
          <p:nvPr/>
        </p:nvGraphicFramePr>
        <p:xfrm>
          <a:off x="4572000" y="1714680"/>
          <a:ext cx="4572000" cy="5143320"/>
        </p:xfrm>
        <a:graphic>
          <a:graphicData uri="http://schemas.openxmlformats.org/presentationml/2006/ole">
            <p:oleObj r:id="rId1" spid="">
              <p:embed/>
              <p:pic>
                <p:nvPicPr>
                  <p:cNvPr id="1710"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11"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restart="never" nodeType="clickEffect" fill="hold" presetClass="entr" presetID="1" repeatCount="1000">
                                  <p:stCondLst>
                                    <p:cond delay="0"/>
                                  </p:stCondLst>
                                  <p:childTnLst>
                                    <p:set>
                                      <p:cBhvr>
                                        <p:cTn id="24" dur="1" fill="hold">
                                          <p:stCondLst>
                                            <p:cond delay="0"/>
                                          </p:stCondLst>
                                        </p:cTn>
                                        <p:tgtEl>
                                          <p:spTgt spid="1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student scores on assessment to modify lessons each day to meet student needs.</a:t>
            </a:r>
            <a:endParaRPr b="0" lang="en-US" sz="4000" spc="-1" strike="noStrike">
              <a:solidFill>
                <a:srgbClr val="000000"/>
              </a:solidFill>
              <a:latin typeface="Calibri"/>
            </a:endParaRPr>
          </a:p>
        </p:txBody>
      </p:sp>
      <p:graphicFrame>
        <p:nvGraphicFramePr>
          <p:cNvPr id="1713" name="TPChart"/>
          <p:cNvGraphicFramePr/>
          <p:nvPr/>
        </p:nvGraphicFramePr>
        <p:xfrm>
          <a:off x="4572000" y="1714680"/>
          <a:ext cx="4572000" cy="5143320"/>
        </p:xfrm>
        <a:graphic>
          <a:graphicData uri="http://schemas.openxmlformats.org/presentationml/2006/ole">
            <p:oleObj r:id="rId1" spid="">
              <p:embed/>
              <p:pic>
                <p:nvPicPr>
                  <p:cNvPr id="1714"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15" name="PlaceHolder 2"/>
          <p:cNvSpPr>
            <a:spLocks noGrp="1"/>
          </p:cNvSpPr>
          <p:nvPr>
            <p:ph/>
          </p:nvPr>
        </p:nvSpPr>
        <p:spPr>
          <a:xfrm>
            <a:off x="380880" y="25909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restart="never" nodeType="clickEffect" fill="hold" presetClass="entr" presetID="1" repeatCount="1000">
                                  <p:stCondLst>
                                    <p:cond delay="0"/>
                                  </p:stCondLst>
                                  <p:childTnLst>
                                    <p:set>
                                      <p:cBhvr>
                                        <p:cTn id="30" dur="1" fill="hold">
                                          <p:stCondLst>
                                            <p:cond delay="0"/>
                                          </p:stCondLst>
                                        </p:cTn>
                                        <p:tgtEl>
                                          <p:spTgt spid="1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es and implements new technologies into lessons consistently.</a:t>
            </a:r>
            <a:endParaRPr b="0" lang="en-US" sz="4000" spc="-1" strike="noStrike">
              <a:solidFill>
                <a:srgbClr val="000000"/>
              </a:solidFill>
              <a:latin typeface="Calibri"/>
            </a:endParaRPr>
          </a:p>
        </p:txBody>
      </p:sp>
      <p:graphicFrame>
        <p:nvGraphicFramePr>
          <p:cNvPr id="1717" name="TPChart"/>
          <p:cNvGraphicFramePr/>
          <p:nvPr/>
        </p:nvGraphicFramePr>
        <p:xfrm>
          <a:off x="4572000" y="2044800"/>
          <a:ext cx="4572000" cy="4813200"/>
        </p:xfrm>
        <a:graphic>
          <a:graphicData uri="http://schemas.openxmlformats.org/presentationml/2006/ole">
            <p:oleObj r:id="rId1" spid="">
              <p:embed/>
              <p:pic>
                <p:nvPicPr>
                  <p:cNvPr id="1718" name="TPChart" descr=""/>
                  <p:cNvPicPr/>
                  <p:nvPr/>
                </p:nvPicPr>
                <p:blipFill>
                  <a:blip r:embed="rId2"/>
                  <a:stretch/>
                </p:blipFill>
                <p:spPr>
                  <a:xfrm>
                    <a:off x="4572000" y="2044800"/>
                    <a:ext cx="4572000" cy="4813200"/>
                  </a:xfrm>
                  <a:prstGeom prst="rect">
                    <a:avLst/>
                  </a:prstGeom>
                  <a:ln w="0">
                    <a:noFill/>
                  </a:ln>
                </p:spPr>
              </p:pic>
            </p:oleObj>
          </a:graphicData>
        </a:graphic>
      </p:graphicFrame>
      <p:sp>
        <p:nvSpPr>
          <p:cNvPr id="1719" name="PlaceHolder 2"/>
          <p:cNvSpPr>
            <a:spLocks noGrp="1"/>
          </p:cNvSpPr>
          <p:nvPr>
            <p:ph/>
          </p:nvPr>
        </p:nvSpPr>
        <p:spPr>
          <a:xfrm>
            <a:off x="380880" y="25909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restart="never" nodeType="clickEffect" fill="hold" presetClass="entr" presetID="1" repeatCount="1000">
                                  <p:stCondLst>
                                    <p:cond delay="0"/>
                                  </p:stCondLst>
                                  <p:childTnLst>
                                    <p:set>
                                      <p:cBhvr>
                                        <p:cTn id="36" dur="1" fill="hold">
                                          <p:stCondLst>
                                            <p:cond delay="0"/>
                                          </p:stCondLst>
                                        </p:cTn>
                                        <p:tgtEl>
                                          <p:spTgt spid="17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use of student learning styles.</a:t>
            </a:r>
            <a:endParaRPr b="0" lang="en-US" sz="4000" spc="-1" strike="noStrike">
              <a:solidFill>
                <a:srgbClr val="000000"/>
              </a:solidFill>
              <a:latin typeface="Calibri"/>
            </a:endParaRPr>
          </a:p>
        </p:txBody>
      </p:sp>
      <p:graphicFrame>
        <p:nvGraphicFramePr>
          <p:cNvPr id="1721" name="TPChart"/>
          <p:cNvGraphicFramePr/>
          <p:nvPr/>
        </p:nvGraphicFramePr>
        <p:xfrm>
          <a:off x="4572000" y="1714680"/>
          <a:ext cx="4572000" cy="5143320"/>
        </p:xfrm>
        <a:graphic>
          <a:graphicData uri="http://schemas.openxmlformats.org/presentationml/2006/ole">
            <p:oleObj r:id="rId1" spid="">
              <p:embed/>
              <p:pic>
                <p:nvPicPr>
                  <p:cNvPr id="1722"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23" name="PlaceHolder 2"/>
          <p:cNvSpPr>
            <a:spLocks noGrp="1"/>
          </p:cNvSpPr>
          <p:nvPr>
            <p:ph/>
          </p:nvPr>
        </p:nvSpPr>
        <p:spPr>
          <a:xfrm>
            <a:off x="380880" y="28954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restart="never" nodeType="clickEffect" fill="hold" presetClass="entr" presetID="1" repeatCount="1000">
                                  <p:stCondLst>
                                    <p:cond delay="0"/>
                                  </p:stCondLst>
                                  <p:childTnLst>
                                    <p:set>
                                      <p:cBhvr>
                                        <p:cTn id="42" dur="1" fill="hold">
                                          <p:stCondLst>
                                            <p:cond delay="0"/>
                                          </p:stCondLst>
                                        </p:cTn>
                                        <p:tgtEl>
                                          <p:spTgt spid="1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very comfortable using the NCEES to complete an observation, a teacher’s PDP, and self-assessment.</a:t>
            </a:r>
            <a:endParaRPr b="0" lang="en-US" sz="3600" spc="-1" strike="noStrike">
              <a:solidFill>
                <a:srgbClr val="000000"/>
              </a:solidFill>
              <a:latin typeface="Calibri"/>
            </a:endParaRPr>
          </a:p>
        </p:txBody>
      </p:sp>
      <p:graphicFrame>
        <p:nvGraphicFramePr>
          <p:cNvPr id="1618" name="TPChart"/>
          <p:cNvGraphicFramePr/>
          <p:nvPr/>
        </p:nvGraphicFramePr>
        <p:xfrm>
          <a:off x="4572000" y="1714680"/>
          <a:ext cx="4572000" cy="5143320"/>
        </p:xfrm>
        <a:graphic>
          <a:graphicData uri="http://schemas.openxmlformats.org/presentationml/2006/ole">
            <p:oleObj r:id="rId1" spid="">
              <p:embed/>
              <p:pic>
                <p:nvPicPr>
                  <p:cNvPr id="1619"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620" name="PlaceHolder 2"/>
          <p:cNvSpPr>
            <a:spLocks noGrp="1"/>
          </p:cNvSpPr>
          <p:nvPr>
            <p:ph/>
          </p:nvPr>
        </p:nvSpPr>
        <p:spPr>
          <a:xfrm>
            <a:off x="380880" y="2514240"/>
            <a:ext cx="41148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restart="never" nodeType="clickEffect" fill="hold" presetClass="entr" presetID="1" repeatCount="1000">
                                  <p:stCondLst>
                                    <p:cond delay="0"/>
                                  </p:stCondLst>
                                  <p:childTnLst>
                                    <p:set>
                                      <p:cBhvr>
                                        <p:cTn id="6" dur="1" fill="hold">
                                          <p:stCondLst>
                                            <p:cond delay="0"/>
                                          </p:stCondLst>
                                        </p:cTn>
                                        <p:tgtEl>
                                          <p:spTgt spid="1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s and encourages students and parents in understanding of learning styles and differentiation.</a:t>
            </a:r>
            <a:endParaRPr b="0" lang="en-US" sz="4000" spc="-1" strike="noStrike">
              <a:solidFill>
                <a:srgbClr val="000000"/>
              </a:solidFill>
              <a:latin typeface="Calibri"/>
            </a:endParaRPr>
          </a:p>
        </p:txBody>
      </p:sp>
      <p:graphicFrame>
        <p:nvGraphicFramePr>
          <p:cNvPr id="1725" name="TPChart"/>
          <p:cNvGraphicFramePr/>
          <p:nvPr/>
        </p:nvGraphicFramePr>
        <p:xfrm>
          <a:off x="4572000" y="1714680"/>
          <a:ext cx="4572000" cy="5143320"/>
        </p:xfrm>
        <a:graphic>
          <a:graphicData uri="http://schemas.openxmlformats.org/presentationml/2006/ole">
            <p:oleObj r:id="rId1" spid="">
              <p:embed/>
              <p:pic>
                <p:nvPicPr>
                  <p:cNvPr id="1726"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27" name="PlaceHolder 2"/>
          <p:cNvSpPr>
            <a:spLocks noGrp="1"/>
          </p:cNvSpPr>
          <p:nvPr>
            <p:ph/>
          </p:nvPr>
        </p:nvSpPr>
        <p:spPr>
          <a:xfrm>
            <a:off x="380880" y="28954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restart="never" nodeType="clickEffect" fill="hold" presetClass="entr" presetID="1" repeatCount="1000">
                                  <p:stCondLst>
                                    <p:cond delay="0"/>
                                  </p:stCondLst>
                                  <p:childTnLst>
                                    <p:set>
                                      <p:cBhvr>
                                        <p:cTn id="48" dur="1" fill="hold">
                                          <p:stCondLst>
                                            <p:cond delay="0"/>
                                          </p:stCondLst>
                                        </p:cTn>
                                        <p:tgtEl>
                                          <p:spTgt spid="17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ducts staff development and presents learned information to staff.</a:t>
            </a:r>
            <a:endParaRPr b="0" lang="en-US" sz="4000" spc="-1" strike="noStrike">
              <a:solidFill>
                <a:srgbClr val="000000"/>
              </a:solidFill>
              <a:latin typeface="Calibri"/>
            </a:endParaRPr>
          </a:p>
        </p:txBody>
      </p:sp>
      <p:graphicFrame>
        <p:nvGraphicFramePr>
          <p:cNvPr id="1729" name="TPChart"/>
          <p:cNvGraphicFramePr/>
          <p:nvPr/>
        </p:nvGraphicFramePr>
        <p:xfrm>
          <a:off x="4508640" y="1905120"/>
          <a:ext cx="4572000" cy="4889520"/>
        </p:xfrm>
        <a:graphic>
          <a:graphicData uri="http://schemas.openxmlformats.org/presentationml/2006/ole">
            <p:oleObj r:id="rId1" spid="">
              <p:embed/>
              <p:pic>
                <p:nvPicPr>
                  <p:cNvPr id="1730" name="TPChart" descr=""/>
                  <p:cNvPicPr/>
                  <p:nvPr/>
                </p:nvPicPr>
                <p:blipFill>
                  <a:blip r:embed="rId2"/>
                  <a:stretch/>
                </p:blipFill>
                <p:spPr>
                  <a:xfrm>
                    <a:off x="4508640" y="1905120"/>
                    <a:ext cx="4572000" cy="4889520"/>
                  </a:xfrm>
                  <a:prstGeom prst="rect">
                    <a:avLst/>
                  </a:prstGeom>
                  <a:ln w="0">
                    <a:noFill/>
                  </a:ln>
                </p:spPr>
              </p:pic>
            </p:oleObj>
          </a:graphicData>
        </a:graphic>
      </p:graphicFrame>
      <p:sp>
        <p:nvSpPr>
          <p:cNvPr id="1731" name="PlaceHolder 2"/>
          <p:cNvSpPr>
            <a:spLocks noGrp="1"/>
          </p:cNvSpPr>
          <p:nvPr>
            <p:ph/>
          </p:nvPr>
        </p:nvSpPr>
        <p:spPr>
          <a:xfrm>
            <a:off x="38088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restart="never" nodeType="clickEffect" fill="hold" presetClass="entr" presetID="1" repeatCount="1000">
                                  <p:stCondLst>
                                    <p:cond delay="0"/>
                                  </p:stCondLst>
                                  <p:childTnLst>
                                    <p:set>
                                      <p:cBhvr>
                                        <p:cTn id="54" dur="1" fill="hold">
                                          <p:stCondLst>
                                            <p:cond delay="0"/>
                                          </p:stCondLst>
                                        </p:cTn>
                                        <p:tgtEl>
                                          <p:spTgt spid="1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not attend staff meetings on a regular basis</a:t>
            </a:r>
            <a:r>
              <a:rPr b="0" lang="en-US" sz="4400" spc="-1" strike="noStrike">
                <a:solidFill>
                  <a:srgbClr val="000000"/>
                </a:solidFill>
                <a:latin typeface="Calibri"/>
              </a:rPr>
              <a:t>.</a:t>
            </a:r>
            <a:endParaRPr b="0" lang="en-US" sz="4400" spc="-1" strike="noStrike">
              <a:solidFill>
                <a:srgbClr val="000000"/>
              </a:solidFill>
              <a:latin typeface="Calibri"/>
            </a:endParaRPr>
          </a:p>
        </p:txBody>
      </p:sp>
      <p:graphicFrame>
        <p:nvGraphicFramePr>
          <p:cNvPr id="1733" name="TPChart"/>
          <p:cNvGraphicFramePr/>
          <p:nvPr/>
        </p:nvGraphicFramePr>
        <p:xfrm>
          <a:off x="4508640" y="1650960"/>
          <a:ext cx="4572000" cy="5143680"/>
        </p:xfrm>
        <a:graphic>
          <a:graphicData uri="http://schemas.openxmlformats.org/presentationml/2006/ole">
            <p:oleObj r:id="rId1" spid="">
              <p:embed/>
              <p:pic>
                <p:nvPicPr>
                  <p:cNvPr id="173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735"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restart="never" nodeType="clickEffect" fill="hold" presetClass="entr" presetID="1" repeatCount="1000">
                                  <p:stCondLst>
                                    <p:cond delay="0"/>
                                  </p:stCondLst>
                                  <p:childTnLst>
                                    <p:set>
                                      <p:cBhvr>
                                        <p:cTn id="60" dur="1" fill="hold">
                                          <p:stCondLst>
                                            <p:cond delay="0"/>
                                          </p:stCondLst>
                                        </p:cTn>
                                        <p:tgtEl>
                                          <p:spTgt spid="1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gages students in high level lessons such as Paideia, Socratic Seminars, and Literacy Circles.</a:t>
            </a:r>
            <a:endParaRPr b="0" lang="en-US" sz="4000" spc="-1" strike="noStrike">
              <a:solidFill>
                <a:srgbClr val="000000"/>
              </a:solidFill>
              <a:latin typeface="Calibri"/>
            </a:endParaRPr>
          </a:p>
        </p:txBody>
      </p:sp>
      <p:graphicFrame>
        <p:nvGraphicFramePr>
          <p:cNvPr id="1737" name="TPChart"/>
          <p:cNvGraphicFramePr/>
          <p:nvPr/>
        </p:nvGraphicFramePr>
        <p:xfrm>
          <a:off x="4508640" y="1676520"/>
          <a:ext cx="4572000" cy="5118120"/>
        </p:xfrm>
        <a:graphic>
          <a:graphicData uri="http://schemas.openxmlformats.org/presentationml/2006/ole">
            <p:oleObj r:id="rId1" spid="">
              <p:embed/>
              <p:pic>
                <p:nvPicPr>
                  <p:cNvPr id="1738" name="TPChart" descr=""/>
                  <p:cNvPicPr/>
                  <p:nvPr/>
                </p:nvPicPr>
                <p:blipFill>
                  <a:blip r:embed="rId2"/>
                  <a:stretch/>
                </p:blipFill>
                <p:spPr>
                  <a:xfrm>
                    <a:off x="4508640" y="1676520"/>
                    <a:ext cx="4572000" cy="5118120"/>
                  </a:xfrm>
                  <a:prstGeom prst="rect">
                    <a:avLst/>
                  </a:prstGeom>
                  <a:ln w="0">
                    <a:noFill/>
                  </a:ln>
                </p:spPr>
              </p:pic>
            </p:oleObj>
          </a:graphicData>
        </a:graphic>
      </p:graphicFrame>
      <p:sp>
        <p:nvSpPr>
          <p:cNvPr id="1739" name="PlaceHolder 2"/>
          <p:cNvSpPr>
            <a:spLocks noGrp="1"/>
          </p:cNvSpPr>
          <p:nvPr>
            <p:ph/>
          </p:nvPr>
        </p:nvSpPr>
        <p:spPr>
          <a:xfrm>
            <a:off x="304920" y="28195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How Would You Rate this Teacher?</a:t>
            </a:r>
            <a:endParaRPr b="0" lang="en-US" sz="4400" spc="-1" strike="noStrike">
              <a:solidFill>
                <a:srgbClr val="000000"/>
              </a:solidFill>
              <a:latin typeface="Calibri"/>
            </a:endParaRPr>
          </a:p>
        </p:txBody>
      </p:sp>
      <p:sp>
        <p:nvSpPr>
          <p:cNvPr id="1741"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How Would You Rate this Teacher?</a:t>
            </a:r>
            <a:endParaRPr b="0" lang="en-US" sz="4400" spc="-1" strike="noStrike">
              <a:solidFill>
                <a:srgbClr val="000000"/>
              </a:solidFill>
              <a:latin typeface="Calibri"/>
            </a:endParaRPr>
          </a:p>
        </p:txBody>
      </p:sp>
      <p:graphicFrame>
        <p:nvGraphicFramePr>
          <p:cNvPr id="1743" name="TPChart"/>
          <p:cNvGraphicFramePr/>
          <p:nvPr/>
        </p:nvGraphicFramePr>
        <p:xfrm>
          <a:off x="4508640" y="1650960"/>
          <a:ext cx="4572000" cy="5143680"/>
        </p:xfrm>
        <a:graphic>
          <a:graphicData uri="http://schemas.openxmlformats.org/presentationml/2006/ole">
            <p:oleObj r:id="rId1" spid="">
              <p:embed/>
              <p:pic>
                <p:nvPicPr>
                  <p:cNvPr id="1744" name="TPChart" descr=""/>
                  <p:cNvPicPr/>
                  <p:nvPr/>
                </p:nvPicPr>
                <p:blipFill>
                  <a:blip r:embed="rId2"/>
                  <a:stretch/>
                </p:blipFill>
                <p:spPr>
                  <a:xfrm>
                    <a:off x="4508640" y="1650960"/>
                    <a:ext cx="4572000" cy="5143680"/>
                  </a:xfrm>
                  <a:prstGeom prst="rect">
                    <a:avLst/>
                  </a:prstGeom>
                  <a:ln w="0">
                    <a:noFill/>
                  </a:ln>
                </p:spPr>
              </p:pic>
            </p:oleObj>
          </a:graphicData>
        </a:graphic>
      </p:graphicFrame>
      <p:sp>
        <p:nvSpPr>
          <p:cNvPr id="1745" name="PlaceHolder 2"/>
          <p:cNvSpPr>
            <a:spLocks noGrp="1"/>
          </p:cNvSpPr>
          <p:nvPr>
            <p:ph/>
          </p:nvPr>
        </p:nvSpPr>
        <p:spPr>
          <a:xfrm>
            <a:off x="533520" y="182880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restart="never" nodeType="clickEffect" fill="hold" presetClass="entr" presetID="1" repeatCount="1000">
                                  <p:stCondLst>
                                    <p:cond delay="0"/>
                                  </p:stCondLst>
                                  <p:childTnLst>
                                    <p:set>
                                      <p:cBhvr>
                                        <p:cTn id="72" dur="1" fill="hold">
                                          <p:stCondLst>
                                            <p:cond delay="0"/>
                                          </p:stCondLst>
                                        </p:cTn>
                                        <p:tgtEl>
                                          <p:spTgt spid="1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e Sixth Standard for Teachers:</a:t>
            </a:r>
            <a:endParaRPr b="0" lang="en-US" sz="4400" spc="-1" strike="noStrike">
              <a:solidFill>
                <a:srgbClr val="000000"/>
              </a:solidFill>
              <a:latin typeface="Calibri"/>
            </a:endParaRPr>
          </a:p>
        </p:txBody>
      </p:sp>
      <p:pic>
        <p:nvPicPr>
          <p:cNvPr id="1747"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he Eighth Standard for Administrators:</a:t>
            </a:r>
            <a:endParaRPr b="0" lang="en-US" sz="3600" spc="-1" strike="noStrike">
              <a:solidFill>
                <a:srgbClr val="000000"/>
              </a:solidFill>
              <a:latin typeface="Calibri"/>
            </a:endParaRPr>
          </a:p>
        </p:txBody>
      </p:sp>
      <p:pic>
        <p:nvPicPr>
          <p:cNvPr id="1749"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0" name="Diagram 5" descr=""/>
          <p:cNvPicPr/>
          <p:nvPr/>
        </p:nvPicPr>
        <p:blipFill>
          <a:blip r:embed="rId1"/>
          <a:stretch/>
        </p:blipFill>
        <p:spPr>
          <a:xfrm>
            <a:off x="901800" y="1030320"/>
            <a:ext cx="7188120" cy="2700360"/>
          </a:xfrm>
          <a:prstGeom prst="rect">
            <a:avLst/>
          </a:prstGeom>
          <a:ln w="0">
            <a:noFill/>
          </a:ln>
        </p:spPr>
      </p:pic>
      <p:pic>
        <p:nvPicPr>
          <p:cNvPr id="1751" name="Diagram 7" descr=""/>
          <p:cNvPicPr/>
          <p:nvPr/>
        </p:nvPicPr>
        <p:blipFill>
          <a:blip r:embed="rId2"/>
          <a:stretch/>
        </p:blipFill>
        <p:spPr>
          <a:xfrm>
            <a:off x="901800" y="3700440"/>
            <a:ext cx="7188120" cy="2700360"/>
          </a:xfrm>
          <a:prstGeom prst="rect">
            <a:avLst/>
          </a:prstGeom>
          <a:ln w="0">
            <a:noFill/>
          </a:ln>
        </p:spPr>
      </p:pic>
      <p:sp>
        <p:nvSpPr>
          <p:cNvPr id="1752"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2060"/>
                </a:solidFill>
                <a:latin typeface="Calibri"/>
              </a:rPr>
              <a:t>Region 1</a:t>
            </a:r>
            <a:br>
              <a:rPr sz="3600"/>
            </a:br>
            <a:r>
              <a:rPr b="1" lang="en-US" sz="3600" spc="-1" strike="noStrike">
                <a:solidFill>
                  <a:srgbClr val="002060"/>
                </a:solidFill>
                <a:latin typeface="Calibri"/>
              </a:rPr>
              <a:t>Professional Development Consultants</a:t>
            </a:r>
            <a:br>
              <a:rPr sz="3600"/>
            </a:br>
            <a:endParaRPr b="0" lang="en-US" sz="3600" spc="-1" strike="noStrike">
              <a:solidFill>
                <a:srgbClr val="000000"/>
              </a:solidFill>
              <a:latin typeface="Calibri"/>
            </a:endParaRPr>
          </a:p>
        </p:txBody>
      </p:sp>
      <p:sp>
        <p:nvSpPr>
          <p:cNvPr id="1754"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5"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e has been a schedule and completed annual NC Educator Evaluation System training and orientation with all staff.</a:t>
            </a:r>
            <a:endParaRPr b="0" lang="en-US" sz="4000" spc="-1" strike="noStrike">
              <a:solidFill>
                <a:srgbClr val="000000"/>
              </a:solidFill>
              <a:latin typeface="Calibri"/>
            </a:endParaRPr>
          </a:p>
        </p:txBody>
      </p:sp>
      <p:graphicFrame>
        <p:nvGraphicFramePr>
          <p:cNvPr id="1622" name="TPChart"/>
          <p:cNvGraphicFramePr/>
          <p:nvPr/>
        </p:nvGraphicFramePr>
        <p:xfrm>
          <a:off x="4343400" y="1714680"/>
          <a:ext cx="4572000" cy="5143320"/>
        </p:xfrm>
        <a:graphic>
          <a:graphicData uri="http://schemas.openxmlformats.org/presentationml/2006/ole">
            <p:oleObj r:id="rId1" spid="">
              <p:embed/>
              <p:pic>
                <p:nvPicPr>
                  <p:cNvPr id="1623" name="TPChart" descr=""/>
                  <p:cNvPicPr/>
                  <p:nvPr/>
                </p:nvPicPr>
                <p:blipFill>
                  <a:blip r:embed="rId2"/>
                  <a:stretch/>
                </p:blipFill>
                <p:spPr>
                  <a:xfrm>
                    <a:off x="4343400" y="1714680"/>
                    <a:ext cx="4572000" cy="5143320"/>
                  </a:xfrm>
                  <a:prstGeom prst="rect">
                    <a:avLst/>
                  </a:prstGeom>
                  <a:ln w="0">
                    <a:noFill/>
                  </a:ln>
                </p:spPr>
              </p:pic>
            </p:oleObj>
          </a:graphicData>
        </a:graphic>
      </p:graphicFrame>
      <p:sp>
        <p:nvSpPr>
          <p:cNvPr id="1624" name="PlaceHolder 2"/>
          <p:cNvSpPr>
            <a:spLocks noGrp="1"/>
          </p:cNvSpPr>
          <p:nvPr>
            <p:ph/>
          </p:nvPr>
        </p:nvSpPr>
        <p:spPr>
          <a:xfrm>
            <a:off x="457200" y="327672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restart="never" nodeType="clickEffect" fill="hold" presetClass="entr" presetID="1" repeatCount="1000">
                                  <p:stCondLst>
                                    <p:cond delay="0"/>
                                  </p:stCondLst>
                                  <p:childTnLst>
                                    <p:set>
                                      <p:cBhvr>
                                        <p:cTn id="12" dur="1" fill="hold">
                                          <p:stCondLst>
                                            <p:cond delay="0"/>
                                          </p:stCondLst>
                                        </p:cTn>
                                        <p:tgtEl>
                                          <p:spTgt spid="16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now feel more comfortable using the NCEES to complete an observation, a teacher’s PDP, and self-assessment.</a:t>
            </a:r>
            <a:endParaRPr b="0" lang="en-US" sz="3600" spc="-1" strike="noStrike">
              <a:solidFill>
                <a:srgbClr val="000000"/>
              </a:solidFill>
              <a:latin typeface="Calibri"/>
            </a:endParaRPr>
          </a:p>
        </p:txBody>
      </p:sp>
      <p:graphicFrame>
        <p:nvGraphicFramePr>
          <p:cNvPr id="1757" name="TPChart"/>
          <p:cNvGraphicFramePr/>
          <p:nvPr/>
        </p:nvGraphicFramePr>
        <p:xfrm>
          <a:off x="4572000" y="1714680"/>
          <a:ext cx="4572000" cy="5143320"/>
        </p:xfrm>
        <a:graphic>
          <a:graphicData uri="http://schemas.openxmlformats.org/presentationml/2006/ole">
            <p:oleObj r:id="rId1" spid="">
              <p:embed/>
              <p:pic>
                <p:nvPicPr>
                  <p:cNvPr id="1758" name="TPChart" descr=""/>
                  <p:cNvPicPr/>
                  <p:nvPr/>
                </p:nvPicPr>
                <p:blipFill>
                  <a:blip r:embed="rId2"/>
                  <a:stretch/>
                </p:blipFill>
                <p:spPr>
                  <a:xfrm>
                    <a:off x="4572000" y="1714680"/>
                    <a:ext cx="4572000" cy="5143320"/>
                  </a:xfrm>
                  <a:prstGeom prst="rect">
                    <a:avLst/>
                  </a:prstGeom>
                  <a:ln w="0">
                    <a:noFill/>
                  </a:ln>
                </p:spPr>
              </p:pic>
            </p:oleObj>
          </a:graphicData>
        </a:graphic>
      </p:graphicFrame>
      <p:sp>
        <p:nvSpPr>
          <p:cNvPr id="1759" name="PlaceHolder 2"/>
          <p:cNvSpPr>
            <a:spLocks noGrp="1"/>
          </p:cNvSpPr>
          <p:nvPr>
            <p:ph/>
          </p:nvPr>
        </p:nvSpPr>
        <p:spPr>
          <a:xfrm>
            <a:off x="380880" y="2514240"/>
            <a:ext cx="4114800" cy="434340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utr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agre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ly Disagr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restart="never" nodeType="clickEffect" fill="hold" presetClass="entr" presetID="1" repeatCount="1000">
                                  <p:stCondLst>
                                    <p:cond delay="0"/>
                                  </p:stCondLst>
                                  <p:childTnLst>
                                    <p:set>
                                      <p:cBhvr>
                                        <p:cTn id="78" dur="1" fill="hold">
                                          <p:stCondLst>
                                            <p:cond delay="0"/>
                                          </p:stCondLst>
                                        </p:cTn>
                                        <p:tgtEl>
                                          <p:spTgt spid="1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0" name="Picture 3" descr=""/>
          <p:cNvPicPr/>
          <p:nvPr/>
        </p:nvPicPr>
        <p:blipFill>
          <a:blip r:embed="rId1"/>
          <a:stretch/>
        </p:blipFill>
        <p:spPr>
          <a:xfrm rot="20986200">
            <a:off x="6490800" y="210600"/>
            <a:ext cx="2529000" cy="1619280"/>
          </a:xfrm>
          <a:prstGeom prst="rect">
            <a:avLst/>
          </a:prstGeom>
          <a:ln w="0">
            <a:noFill/>
          </a:ln>
        </p:spPr>
      </p:pic>
      <p:sp>
        <p:nvSpPr>
          <p:cNvPr id="1761"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libri"/>
              </a:rPr>
              <a:t>Ticket out the Door</a:t>
            </a:r>
            <a:endParaRPr b="0" lang="en-US" sz="5400" spc="-1" strike="noStrike">
              <a:solidFill>
                <a:srgbClr val="000000"/>
              </a:solidFill>
              <a:latin typeface="Calibri"/>
            </a:endParaRPr>
          </a:p>
        </p:txBody>
      </p:sp>
      <p:sp>
        <p:nvSpPr>
          <p:cNvPr id="1762" name=""/>
          <p:cNvSpPr txBox="1"/>
          <p:nvPr/>
        </p:nvSpPr>
        <p:spPr>
          <a:xfrm>
            <a:off x="457200" y="160020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You may complete the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icket out the Door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y clicking below</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Narrow"/>
                <a:hlinkClick r:id="rId2"/>
              </a:rPr>
              <a:t>Reflection</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63"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64"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26"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27"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28"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32"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33"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35"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Principal’s and Assistant Principal’s Responsibility</a:t>
            </a:r>
            <a:endParaRPr b="0" lang="en-US" sz="4000" spc="-1" strike="noStrike">
              <a:solidFill>
                <a:srgbClr val="000000"/>
              </a:solidFill>
              <a:latin typeface="Calibri"/>
            </a:endParaRPr>
          </a:p>
        </p:txBody>
      </p:sp>
      <p:pic>
        <p:nvPicPr>
          <p:cNvPr id="1637" name="Content Placeholder 3" descr=""/>
          <p:cNvPicPr/>
          <p:nvPr/>
        </p:nvPicPr>
        <p:blipFill>
          <a:blip r:embed="rId1"/>
          <a:stretch/>
        </p:blipFill>
        <p:spPr>
          <a:xfrm>
            <a:off x="450720" y="1566720"/>
            <a:ext cx="8089920" cy="4535640"/>
          </a:xfrm>
          <a:prstGeom prst="rect">
            <a:avLst/>
          </a:prstGeom>
          <a:ln w="0">
            <a:noFill/>
          </a:ln>
        </p:spPr>
      </p:pic>
      <p:grpSp>
        <p:nvGrpSpPr>
          <p:cNvPr id="1638" name="Rounded Rectangle 4"/>
          <p:cNvGrpSpPr/>
          <p:nvPr/>
        </p:nvGrpSpPr>
        <p:grpSpPr>
          <a:xfrm>
            <a:off x="3840120" y="1785960"/>
            <a:ext cx="1470240" cy="927000"/>
            <a:chOff x="3840120" y="1785960"/>
            <a:chExt cx="1470240" cy="927000"/>
          </a:xfrm>
        </p:grpSpPr>
        <p:pic>
          <p:nvPicPr>
            <p:cNvPr id="1639" name="Rounded Rectangle 4" descr=""/>
            <p:cNvPicPr/>
            <p:nvPr/>
          </p:nvPicPr>
          <p:blipFill>
            <a:blip r:embed="rId2"/>
            <a:stretch/>
          </p:blipFill>
          <p:spPr>
            <a:xfrm>
              <a:off x="3840120" y="1785960"/>
              <a:ext cx="1470240" cy="927000"/>
            </a:xfrm>
            <a:prstGeom prst="rect">
              <a:avLst/>
            </a:prstGeom>
            <a:ln w="0">
              <a:noFill/>
            </a:ln>
          </p:spPr>
        </p:pic>
        <p:sp>
          <p:nvSpPr>
            <p:cNvPr id="1640"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1"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ea typeface="Arial"/>
              </a:rPr>
              <a:t>We’re Here to Help!</a:t>
            </a:r>
            <a:endParaRPr b="0" lang="en-US" sz="4400" spc="-1" strike="noStrike">
              <a:solidFill>
                <a:srgbClr val="000000"/>
              </a:solidFill>
              <a:latin typeface="Calibri"/>
            </a:endParaRPr>
          </a:p>
        </p:txBody>
      </p:sp>
      <p:pic>
        <p:nvPicPr>
          <p:cNvPr id="1643" name="Content Placeholder 5" descr="northeast.gif"/>
          <p:cNvPicPr/>
          <p:nvPr/>
        </p:nvPicPr>
        <p:blipFill>
          <a:blip r:embed="rId1"/>
          <a:stretch/>
        </p:blipFill>
        <p:spPr>
          <a:xfrm>
            <a:off x="2514600" y="1752480"/>
            <a:ext cx="3714840" cy="3200400"/>
          </a:xfrm>
          <a:prstGeom prst="rect">
            <a:avLst/>
          </a:prstGeom>
          <a:ln w="0">
            <a:noFill/>
          </a:ln>
        </p:spPr>
      </p:pic>
      <p:pic>
        <p:nvPicPr>
          <p:cNvPr id="1644" name="Picture 7" descr="Dianne%20Meiggs[1].JPG"/>
          <p:cNvPicPr/>
          <p:nvPr/>
        </p:nvPicPr>
        <p:blipFill>
          <a:blip r:embed="rId2"/>
          <a:stretch/>
        </p:blipFill>
        <p:spPr>
          <a:xfrm>
            <a:off x="533520" y="2362320"/>
            <a:ext cx="1798560" cy="2514600"/>
          </a:xfrm>
          <a:prstGeom prst="rect">
            <a:avLst/>
          </a:prstGeom>
          <a:ln w="0">
            <a:noFill/>
          </a:ln>
        </p:spPr>
      </p:pic>
      <p:pic>
        <p:nvPicPr>
          <p:cNvPr id="1645" name="Picture 6" descr="beth pic 2.bmp"/>
          <p:cNvPicPr/>
          <p:nvPr/>
        </p:nvPicPr>
        <p:blipFill>
          <a:blip r:embed="rId3"/>
          <a:stretch/>
        </p:blipFill>
        <p:spPr>
          <a:xfrm>
            <a:off x="6629400" y="2514600"/>
            <a:ext cx="1771560" cy="2389320"/>
          </a:xfrm>
          <a:prstGeom prst="rect">
            <a:avLst/>
          </a:prstGeom>
          <a:ln w="0">
            <a:noFill/>
          </a:ln>
        </p:spPr>
      </p:pic>
      <p:sp>
        <p:nvSpPr>
          <p:cNvPr id="1646" name="Rectangle 5"/>
          <p:cNvSpPr/>
          <p:nvPr/>
        </p:nvSpPr>
        <p:spPr>
          <a:xfrm>
            <a:off x="1905120" y="4952880"/>
            <a:ext cx="548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region1rttt.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48" name="Group 21"/>
          <p:cNvGrpSpPr/>
          <p:nvPr/>
        </p:nvGrpSpPr>
        <p:grpSpPr>
          <a:xfrm>
            <a:off x="1828800" y="1676520"/>
            <a:ext cx="5562720" cy="4267080"/>
            <a:chOff x="1828800" y="1676520"/>
            <a:chExt cx="5562720" cy="4267080"/>
          </a:xfrm>
        </p:grpSpPr>
        <p:grpSp>
          <p:nvGrpSpPr>
            <p:cNvPr id="1649" name="Group 7"/>
            <p:cNvGrpSpPr/>
            <p:nvPr/>
          </p:nvGrpSpPr>
          <p:grpSpPr>
            <a:xfrm>
              <a:off x="1828800" y="1676520"/>
              <a:ext cx="2718720" cy="2084760"/>
              <a:chOff x="1828800" y="1676520"/>
              <a:chExt cx="2718720" cy="2084760"/>
            </a:xfrm>
          </p:grpSpPr>
          <p:grpSp>
            <p:nvGrpSpPr>
              <p:cNvPr id="1650" name="Pie 18"/>
              <p:cNvGrpSpPr/>
              <p:nvPr/>
            </p:nvGrpSpPr>
            <p:grpSpPr>
              <a:xfrm>
                <a:off x="1828800" y="1676520"/>
                <a:ext cx="2718720" cy="2084760"/>
                <a:chOff x="1828800" y="1676520"/>
                <a:chExt cx="2718720" cy="2084760"/>
              </a:xfrm>
            </p:grpSpPr>
            <p:pic>
              <p:nvPicPr>
                <p:cNvPr id="1651" name="Pie 18" descr=""/>
                <p:cNvPicPr/>
                <p:nvPr/>
              </p:nvPicPr>
              <p:blipFill>
                <a:blip r:embed="rId1"/>
                <a:stretch/>
              </p:blipFill>
              <p:spPr>
                <a:xfrm>
                  <a:off x="1828800" y="1676520"/>
                  <a:ext cx="2718720" cy="2084760"/>
                </a:xfrm>
                <a:prstGeom prst="rect">
                  <a:avLst/>
                </a:prstGeom>
                <a:ln w="0">
                  <a:noFill/>
                </a:ln>
              </p:spPr>
            </p:pic>
            <p:sp>
              <p:nvSpPr>
                <p:cNvPr id="1652"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3" name="Pie 12"/>
              <p:cNvGrpSpPr/>
              <p:nvPr/>
            </p:nvGrpSpPr>
            <p:grpSpPr>
              <a:xfrm>
                <a:off x="2067480" y="1937880"/>
                <a:ext cx="2467800" cy="1811520"/>
                <a:chOff x="2067480" y="1937880"/>
                <a:chExt cx="2467800" cy="1811520"/>
              </a:xfrm>
            </p:grpSpPr>
            <p:pic>
              <p:nvPicPr>
                <p:cNvPr id="1654" name="Pie 12" descr=""/>
                <p:cNvPicPr/>
                <p:nvPr/>
              </p:nvPicPr>
              <p:blipFill>
                <a:blip r:embed="rId2"/>
                <a:stretch/>
              </p:blipFill>
              <p:spPr>
                <a:xfrm>
                  <a:off x="2067480" y="1937880"/>
                  <a:ext cx="2467800" cy="1811520"/>
                </a:xfrm>
                <a:prstGeom prst="rect">
                  <a:avLst/>
                </a:prstGeom>
                <a:ln w="0">
                  <a:noFill/>
                </a:ln>
              </p:spPr>
            </p:pic>
            <p:sp>
              <p:nvSpPr>
                <p:cNvPr id="1655"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56" name="Group 8"/>
            <p:cNvGrpSpPr/>
            <p:nvPr/>
          </p:nvGrpSpPr>
          <p:grpSpPr>
            <a:xfrm>
              <a:off x="4672800" y="1676520"/>
              <a:ext cx="2718720" cy="2084760"/>
              <a:chOff x="4672800" y="1676520"/>
              <a:chExt cx="2718720" cy="2084760"/>
            </a:xfrm>
          </p:grpSpPr>
          <p:grpSp>
            <p:nvGrpSpPr>
              <p:cNvPr id="1657" name="Pie 16"/>
              <p:cNvGrpSpPr/>
              <p:nvPr/>
            </p:nvGrpSpPr>
            <p:grpSpPr>
              <a:xfrm>
                <a:off x="4672800" y="1676520"/>
                <a:ext cx="2718720" cy="2084760"/>
                <a:chOff x="4672800" y="1676520"/>
                <a:chExt cx="2718720" cy="2084760"/>
              </a:xfrm>
            </p:grpSpPr>
            <p:pic>
              <p:nvPicPr>
                <p:cNvPr id="1658" name="Pie 16" descr=""/>
                <p:cNvPicPr/>
                <p:nvPr/>
              </p:nvPicPr>
              <p:blipFill>
                <a:blip r:embed="rId3"/>
                <a:stretch/>
              </p:blipFill>
              <p:spPr>
                <a:xfrm>
                  <a:off x="4672800" y="1676520"/>
                  <a:ext cx="2718720" cy="2084760"/>
                </a:xfrm>
                <a:prstGeom prst="rect">
                  <a:avLst/>
                </a:prstGeom>
                <a:ln w="0">
                  <a:noFill/>
                </a:ln>
              </p:spPr>
            </p:pic>
            <p:sp>
              <p:nvSpPr>
                <p:cNvPr id="1659"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0" name="Pie 14"/>
              <p:cNvGrpSpPr/>
              <p:nvPr/>
            </p:nvGrpSpPr>
            <p:grpSpPr>
              <a:xfrm>
                <a:off x="4690440" y="1937880"/>
                <a:ext cx="2343240" cy="1811520"/>
                <a:chOff x="4690440" y="1937880"/>
                <a:chExt cx="2343240" cy="1811520"/>
              </a:xfrm>
            </p:grpSpPr>
            <p:pic>
              <p:nvPicPr>
                <p:cNvPr id="1661" name="Pie 14" descr=""/>
                <p:cNvPicPr/>
                <p:nvPr/>
              </p:nvPicPr>
              <p:blipFill>
                <a:blip r:embed="rId4"/>
                <a:stretch/>
              </p:blipFill>
              <p:spPr>
                <a:xfrm>
                  <a:off x="4690440" y="1937880"/>
                  <a:ext cx="2343240" cy="1811520"/>
                </a:xfrm>
                <a:prstGeom prst="rect">
                  <a:avLst/>
                </a:prstGeom>
                <a:ln w="0">
                  <a:noFill/>
                </a:ln>
              </p:spPr>
            </p:pic>
            <p:sp>
              <p:nvSpPr>
                <p:cNvPr id="1662"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63" name="Group 9"/>
            <p:cNvGrpSpPr/>
            <p:nvPr/>
          </p:nvGrpSpPr>
          <p:grpSpPr>
            <a:xfrm>
              <a:off x="4672800" y="3858840"/>
              <a:ext cx="2718720" cy="2084760"/>
              <a:chOff x="4672800" y="3858840"/>
              <a:chExt cx="2718720" cy="2084760"/>
            </a:xfrm>
          </p:grpSpPr>
          <p:grpSp>
            <p:nvGrpSpPr>
              <p:cNvPr id="1664" name="Pie 14"/>
              <p:cNvGrpSpPr/>
              <p:nvPr/>
            </p:nvGrpSpPr>
            <p:grpSpPr>
              <a:xfrm>
                <a:off x="4672800" y="3858840"/>
                <a:ext cx="2718720" cy="2084760"/>
                <a:chOff x="4672800" y="3858840"/>
                <a:chExt cx="2718720" cy="2084760"/>
              </a:xfrm>
            </p:grpSpPr>
            <p:pic>
              <p:nvPicPr>
                <p:cNvPr id="1665" name="Pie 14" descr=""/>
                <p:cNvPicPr/>
                <p:nvPr/>
              </p:nvPicPr>
              <p:blipFill>
                <a:blip r:embed="rId5"/>
                <a:stretch/>
              </p:blipFill>
              <p:spPr>
                <a:xfrm>
                  <a:off x="4672800" y="3858840"/>
                  <a:ext cx="2718720" cy="2084760"/>
                </a:xfrm>
                <a:prstGeom prst="rect">
                  <a:avLst/>
                </a:prstGeom>
                <a:ln w="0">
                  <a:noFill/>
                </a:ln>
              </p:spPr>
            </p:pic>
            <p:sp>
              <p:nvSpPr>
                <p:cNvPr id="1666"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7" name="Pie 16"/>
              <p:cNvGrpSpPr/>
              <p:nvPr/>
            </p:nvGrpSpPr>
            <p:grpSpPr>
              <a:xfrm>
                <a:off x="4815720" y="3888360"/>
                <a:ext cx="2140560" cy="1675080"/>
                <a:chOff x="4815720" y="3888360"/>
                <a:chExt cx="2140560" cy="1675080"/>
              </a:xfrm>
            </p:grpSpPr>
            <p:pic>
              <p:nvPicPr>
                <p:cNvPr id="1668" name="Pie 16" descr=""/>
                <p:cNvPicPr/>
                <p:nvPr/>
              </p:nvPicPr>
              <p:blipFill>
                <a:blip r:embed="rId6"/>
                <a:stretch/>
              </p:blipFill>
              <p:spPr>
                <a:xfrm>
                  <a:off x="4815720" y="3888360"/>
                  <a:ext cx="2140560" cy="1675080"/>
                </a:xfrm>
                <a:prstGeom prst="rect">
                  <a:avLst/>
                </a:prstGeom>
                <a:ln w="0">
                  <a:noFill/>
                </a:ln>
              </p:spPr>
            </p:pic>
            <p:sp>
              <p:nvSpPr>
                <p:cNvPr id="1669"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70" name="Group 10"/>
            <p:cNvGrpSpPr/>
            <p:nvPr/>
          </p:nvGrpSpPr>
          <p:grpSpPr>
            <a:xfrm>
              <a:off x="1828800" y="3858840"/>
              <a:ext cx="2718720" cy="2084760"/>
              <a:chOff x="1828800" y="3858840"/>
              <a:chExt cx="2718720" cy="2084760"/>
            </a:xfrm>
          </p:grpSpPr>
          <p:grpSp>
            <p:nvGrpSpPr>
              <p:cNvPr id="1671" name="Pie 12"/>
              <p:cNvGrpSpPr/>
              <p:nvPr/>
            </p:nvGrpSpPr>
            <p:grpSpPr>
              <a:xfrm>
                <a:off x="1828800" y="3858840"/>
                <a:ext cx="2718720" cy="2084760"/>
                <a:chOff x="1828800" y="3858840"/>
                <a:chExt cx="2718720" cy="2084760"/>
              </a:xfrm>
            </p:grpSpPr>
            <p:pic>
              <p:nvPicPr>
                <p:cNvPr id="1672" name="Pie 12" descr=""/>
                <p:cNvPicPr/>
                <p:nvPr/>
              </p:nvPicPr>
              <p:blipFill>
                <a:blip r:embed="rId7"/>
                <a:stretch/>
              </p:blipFill>
              <p:spPr>
                <a:xfrm>
                  <a:off x="1828800" y="3858840"/>
                  <a:ext cx="2718720" cy="2084760"/>
                </a:xfrm>
                <a:prstGeom prst="rect">
                  <a:avLst/>
                </a:prstGeom>
                <a:ln w="0">
                  <a:noFill/>
                </a:ln>
              </p:spPr>
            </p:pic>
            <p:sp>
              <p:nvSpPr>
                <p:cNvPr id="1673"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4" name="Pie 18"/>
              <p:cNvGrpSpPr/>
              <p:nvPr/>
            </p:nvGrpSpPr>
            <p:grpSpPr>
              <a:xfrm>
                <a:off x="2462040" y="3870720"/>
                <a:ext cx="2073600" cy="1675080"/>
                <a:chOff x="2462040" y="3870720"/>
                <a:chExt cx="2073600" cy="1675080"/>
              </a:xfrm>
            </p:grpSpPr>
            <p:pic>
              <p:nvPicPr>
                <p:cNvPr id="1675" name="Pie 18" descr=""/>
                <p:cNvPicPr/>
                <p:nvPr/>
              </p:nvPicPr>
              <p:blipFill>
                <a:blip r:embed="rId8"/>
                <a:stretch/>
              </p:blipFill>
              <p:spPr>
                <a:xfrm>
                  <a:off x="2462040" y="3870720"/>
                  <a:ext cx="2073600" cy="1675080"/>
                </a:xfrm>
                <a:prstGeom prst="rect">
                  <a:avLst/>
                </a:prstGeom>
                <a:ln w="0">
                  <a:noFill/>
                </a:ln>
              </p:spPr>
            </p:pic>
            <p:sp>
              <p:nvSpPr>
                <p:cNvPr id="1676"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77" name="Circular Arrow 10"/>
            <p:cNvGrpSpPr/>
            <p:nvPr/>
          </p:nvGrpSpPr>
          <p:grpSpPr>
            <a:xfrm>
              <a:off x="4145400" y="3383280"/>
              <a:ext cx="908280" cy="341280"/>
              <a:chOff x="4145400" y="3383280"/>
              <a:chExt cx="908280" cy="341280"/>
            </a:xfrm>
          </p:grpSpPr>
          <p:pic>
            <p:nvPicPr>
              <p:cNvPr id="1678" name="Circular Arrow 10" descr=""/>
              <p:cNvPicPr/>
              <p:nvPr/>
            </p:nvPicPr>
            <p:blipFill>
              <a:blip r:embed="rId9"/>
              <a:stretch/>
            </p:blipFill>
            <p:spPr>
              <a:xfrm>
                <a:off x="4145400" y="3383280"/>
                <a:ext cx="908280" cy="232920"/>
              </a:xfrm>
              <a:prstGeom prst="rect">
                <a:avLst/>
              </a:prstGeom>
              <a:ln w="0">
                <a:noFill/>
              </a:ln>
            </p:spPr>
          </p:pic>
          <p:sp>
            <p:nvSpPr>
              <p:cNvPr id="1679"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0" name="Circular Arrow 11"/>
            <p:cNvGrpSpPr/>
            <p:nvPr/>
          </p:nvGrpSpPr>
          <p:grpSpPr>
            <a:xfrm>
              <a:off x="4157640" y="3889440"/>
              <a:ext cx="908280" cy="341280"/>
              <a:chOff x="4157640" y="3889440"/>
              <a:chExt cx="908280" cy="341280"/>
            </a:xfrm>
          </p:grpSpPr>
          <p:pic>
            <p:nvPicPr>
              <p:cNvPr id="1681" name="Circular Arrow 11" descr=""/>
              <p:cNvPicPr/>
              <p:nvPr/>
            </p:nvPicPr>
            <p:blipFill>
              <a:blip r:embed="rId10"/>
              <a:stretch/>
            </p:blipFill>
            <p:spPr>
              <a:xfrm>
                <a:off x="4157640" y="3994920"/>
                <a:ext cx="908280" cy="235800"/>
              </a:xfrm>
              <a:prstGeom prst="rect">
                <a:avLst/>
              </a:prstGeom>
              <a:ln w="0">
                <a:noFill/>
              </a:ln>
            </p:spPr>
          </p:pic>
          <p:sp>
            <p:nvSpPr>
              <p:cNvPr id="1682"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09-15T00:09:04Z</dcterms:modified>
  <cp:revision>77</cp:revision>
  <dc:subject/>
  <dc:title>RESA Implementation Sessions Day 2 Process</dc:title>
</cp:coreProperties>
</file>